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0549"/>
        <c:axId val="91616835"/>
      </c:barChart>
      <c:catAx>
        <c:axId val="8840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6835"/>
        <c:crosses val="autoZero"/>
        <c:auto val="1"/>
        <c:lblAlgn val="ctr"/>
        <c:lblOffset val="100"/>
        <c:noMultiLvlLbl val="0"/>
      </c:catAx>
      <c:valAx>
        <c:axId val="9161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0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3B6-2CF3-4C1B-B3F2-D3CE6EDA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40B-366F-4E58-8499-A360A367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FD6-2F13-4CD0-81E1-7CACA8B2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B4B-59BA-48A3-866C-2A05497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E01-12FE-4A20-B3F9-752EA8D0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B4E-EABE-4237-B956-390352B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BC3-3E7A-405A-99FF-81C008A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49A-D13E-4A02-B061-B311383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9C-C24C-4C73-A3A0-ED0F46B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4DA-008C-48CA-907F-9863FB5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137-E6D2-45EF-90B1-E9DB88B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280-6B20-4C78-AD2B-E3825AC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59F9F-3051-4C4A-9DBE-F3C632BB01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