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3375"/>
        <c:axId val="62176236"/>
      </c:barChart>
      <c:catAx>
        <c:axId val="6843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76236"/>
        <c:crosses val="autoZero"/>
        <c:auto val="1"/>
        <c:lblAlgn val="ctr"/>
        <c:lblOffset val="100"/>
        <c:noMultiLvlLbl val="0"/>
      </c:catAx>
      <c:valAx>
        <c:axId val="621762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3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3D5-C36A-4C79-B6A5-FE0E3E51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15D-6E6E-491A-A26C-67AF7EE2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F846-A1D0-43EC-B0A0-C52E5D93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2D4-2CE4-40ED-BC14-C72F6BB6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FDA-4D1C-4917-8868-86CADDD0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0A0-6ECC-478D-B483-D850ED80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BF9-686E-47B3-9C4E-451A0D94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E25-A8A6-4CC4-BFFB-CD2963A2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FFE2-F423-450B-8436-57AF3B8F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14A-9096-4992-BFEE-4ED48309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6EA-8BCA-4357-A2C8-87CDDE1E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97B-860E-456E-877D-0A7C968A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E64AC-1DF7-400C-A031-E732F497A1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