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20803"/>
        <c:axId val="54046793"/>
      </c:barChart>
      <c:catAx>
        <c:axId val="21320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46793"/>
        <c:crosses val="autoZero"/>
        <c:auto val="1"/>
        <c:lblAlgn val="ctr"/>
        <c:lblOffset val="100"/>
        <c:noMultiLvlLbl val="0"/>
      </c:catAx>
      <c:valAx>
        <c:axId val="54046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20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D43-2CF6-4FB6-818B-094E94EA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EEE-EDAE-4E63-AFC4-091329C1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51A-97B0-4FAE-9C87-9639EC2B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35B-18AD-4CA5-8AC8-10B80CB3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DA4-AD6F-49B6-BABF-2A958EB0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39A-24E3-4FC0-A153-7D84E6EE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B38-B67E-4A6E-8EEE-B9B4CA5D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83C-B19F-4D69-9167-41DC4B55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3B3-30F1-4ECE-A2FC-12153283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E8D-2936-44D8-9723-60217BFF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2E9-865B-42A9-8329-BA4E1433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71F-243A-445B-807F-D6B54F17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7A1AB-7D34-4432-AC36-847734420F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