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117180"/>
        <c:axId val="33862618"/>
      </c:barChart>
      <c:catAx>
        <c:axId val="461171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62618"/>
        <c:crosses val="autoZero"/>
        <c:auto val="1"/>
        <c:lblAlgn val="ctr"/>
        <c:lblOffset val="100"/>
        <c:noMultiLvlLbl val="0"/>
      </c:catAx>
      <c:valAx>
        <c:axId val="338626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171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4BCE-7DC7-4648-8B5E-BFCCCB70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85BC-4D70-419A-AC20-177A41CF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FBD0-9998-4E31-9A6B-F667B539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7CF1-2AAC-4134-844B-A97964A2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C959-A68C-4BA5-8ABE-966A9369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4194-2D3A-4033-8B36-B04E8420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4E44-D448-4C51-B770-05E589B7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3B4B-80CE-4C2F-85CA-7D1CB23F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DCB7-72D5-4591-B1EA-5C1368B5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EDCC-949D-4954-A6D0-F6949B21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249B-9607-4082-BFD5-95BA4436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CCC5-406D-4AF5-9C81-597C6410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08371-7985-4A92-AD61-0EB2018D7B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