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51024"/>
        <c:axId val="32284418"/>
      </c:barChart>
      <c:catAx>
        <c:axId val="26451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84418"/>
        <c:crosses val="autoZero"/>
        <c:auto val="1"/>
        <c:lblAlgn val="ctr"/>
        <c:lblOffset val="100"/>
        <c:noMultiLvlLbl val="0"/>
      </c:catAx>
      <c:valAx>
        <c:axId val="32284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51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D69-C236-4D8D-87BF-4C7B52A1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CEE-E394-4B7E-B239-8ED65715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D58-BDB9-4E7D-894E-22F8BD56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8BF-D142-41C0-9F33-3DE0A0BC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2D8-BB5D-4A48-813E-ECC63C9B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CF6-055B-4578-B9D7-7FFD3236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EFD-C82D-4CA2-BE3E-BD8AFCFB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5E8-8318-4D02-A52E-4695A0F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F32-5351-4DE5-830C-CB733697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6C4-2ACB-489D-8564-3BD58E9E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8C5-AE7F-480B-8F0B-1FA68572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100-0995-4615-AAE0-05F77EF7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A6D7E-590E-441F-8A90-140EAA31AE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