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97888"/>
        <c:axId val="1161090"/>
      </c:barChart>
      <c:catAx>
        <c:axId val="60997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1090"/>
        <c:crosses val="autoZero"/>
        <c:auto val="1"/>
        <c:lblAlgn val="ctr"/>
        <c:lblOffset val="100"/>
        <c:noMultiLvlLbl val="0"/>
      </c:catAx>
      <c:valAx>
        <c:axId val="1161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97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BB5-689C-4333-B04F-790E3E37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57A-E7CA-473B-966F-3555424B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E10-0324-49C9-9791-363EBB4B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2DD-B744-4D30-AD69-F1AF9C84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785-B1DA-4C1E-8745-31B2F817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CF8-CD42-4578-84EA-522516CE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41A-939D-4E2A-8752-5BB8FBB8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175-863D-4A4B-88F0-C513D864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9CF-80B7-4E2B-94B4-37E2A6B3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BB5-48F4-44E4-84E9-00096A02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A7A-347E-4344-99DA-6B59E5D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150-7F64-4C96-ADC0-910D6DD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86588-BB50-4713-9A9A-8DF3FAC20C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