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69486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lide comments provide talking points and details about examp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5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Leq and Geq elements can be used to bound constra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7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1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explicit transformation from MINLP0 -&gt; UMINLP0 uses a constraint penalty of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8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0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PL command syntax (using the –AMPL flag) is used within the AMPL modeling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–help-solvers-xml is provided to assist the automatic integration of optimizers into GUI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liny naming convention for solvers is &lt;package&gt;: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6200" y="3096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13C260D5-8DFD-486F-BBC6-A656BB26174C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2960" y="1098720"/>
            <a:ext cx="700884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liny Command Line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 (wehart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hn Siirola (jdsiiro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9000" y="9907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ls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(3: 10.1 10.1 10.1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accuracy"&gt;1e-3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ecut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ounds and Labeled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_1 x_2 x_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1" value="9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2" value="5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xed-Integer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5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tegerVars num="4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inary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O_U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rmoo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max_iters"&gt;20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ing System Call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ethod type=“syscal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684760" y="4191120"/>
            <a:ext cx="29876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fault method to launch analysis codes is fork (on Unix) and spawn (on MS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-demand Problem Reformulatio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ed implicit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ed -&gt; Unconstrained with constraint violation penal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ochastic -&gt; Nonstochastic using statistic of r.v.’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LP -&gt; NLP (fixing integer/binary variab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 -&gt; MINL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-&gt; Single objective (using weighted average objec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 objective constrained -&gt; Multi-objective unconstrained with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constrained -&gt; Multi-objective unconstrained with additional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0 -&gt; NLP1 (using finite difference gradient approximatio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licit reformulations also available through XM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“UMINLP0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ConstraintPenalty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enalty value="10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tochastic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S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“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tochasticObjectiv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3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Sampling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amples num="1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 stat="mean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ingle-Obj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Weight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Line Interface (Coliny) provides a single user interface for many COLIN optimiz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exible problem/solver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synta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tructure problem represent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integer linear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iabl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beddable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solver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al solutions archived in a c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MO_U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Unconstrain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age Model for Analysis Cod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9880" y="1790640"/>
            <a:ext cx="5029200" cy="2058120"/>
            <a:chOff x="2369880" y="1790640"/>
            <a:chExt cx="5029200" cy="2058120"/>
          </a:xfrm>
        </p:grpSpPr>
        <p:sp>
          <p:nvSpPr>
            <p:cNvPr id="135" name=""/>
            <p:cNvSpPr/>
            <p:nvPr/>
          </p:nvSpPr>
          <p:spPr>
            <a:xfrm>
              <a:off x="2369880" y="2590920"/>
              <a:ext cx="102852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5"/>
              <a:endCxn id="137" idx="1"/>
            </p:cNvCxnSpPr>
            <p:nvPr/>
          </p:nvCxnSpPr>
          <p:spPr>
            <a:xfrm>
              <a:off x="3293280" y="2819880"/>
              <a:ext cx="4482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74148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70360" y="3390840"/>
              <a:ext cx="1599840" cy="45792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7" idx="2"/>
              <a:endCxn id="138" idx="2"/>
            </p:cNvCxnSpPr>
            <p:nvPr/>
          </p:nvCxnSpPr>
          <p:spPr>
            <a:xfrm flipH="1" rot="16200000">
              <a:off x="4306320" y="2996640"/>
              <a:ext cx="572040" cy="67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637056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5880" y="1790640"/>
              <a:ext cx="159984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pon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7" idx="0"/>
            </p:cNvCxnSpPr>
            <p:nvPr/>
          </p:nvCxnSpPr>
          <p:spPr>
            <a:xfrm flipV="1" rot="10800000">
              <a:off x="4255200" y="2018880"/>
              <a:ext cx="560520" cy="57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40" idx="0"/>
              <a:endCxn id="141" idx="5"/>
            </p:cNvCxnSpPr>
            <p:nvPr/>
          </p:nvCxnSpPr>
          <p:spPr>
            <a:xfrm flipV="1" rot="16200000">
              <a:off x="6203520" y="1908720"/>
              <a:ext cx="571320" cy="79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8" idx="5"/>
              <a:endCxn id="140" idx="2"/>
            </p:cNvCxnSpPr>
            <p:nvPr/>
          </p:nvCxnSpPr>
          <p:spPr>
            <a:xfrm flipV="1">
              <a:off x="6207840" y="3047760"/>
              <a:ext cx="677520" cy="572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884480" y="25909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cc99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ystem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alysisCode Fil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al size="3"&gt; 0.1e-1 0.1 0.1&lt;/Real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ed&gt;100&lt;/See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&gt;13.4&lt;/FunctionValu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semantic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xecute block grammar is determin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element is a “command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ommands take an optional “rank=‘#’” attribute that specifies which process should execute the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mitting “rank” has command executed on all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comm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andLo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solver registers its id as a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elements are parsed by the command processor itsel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mple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lex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c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.0 2.0 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a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1.0 12.0 1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b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MergeCaches in1=“a_ans”, in2=“b_ans” out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 cache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pothetical ABO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max_iters”, value=“2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bo”, type=“abo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a”, problem=“xxx”, initializer=“best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ster rank=“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ddd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bo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utstanding Issu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asynchronous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cached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-objective and Pareto ca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id solvers in 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ious reformulations are in development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of new solver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MHli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+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EG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rror handling in solvers/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is built with the Acro software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rrent webpage documents Acro 1.0 / Colin 2.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and XML functionality are both new features under development for inclusion as part of the upcoming Acro 2.0 / Colin 3.0 release (tentatively December 2008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Featu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ed XML syntax for defining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quential specification of multiple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parameterization of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ic XML interface for external analysis c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application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KOTA vs. Colin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… why do we need another optimization interfac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multi-level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UQ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urrogat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OU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problem types and problem transform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support for new analysis code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lexible support for hybrids (in the future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and Lin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86868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arg1&gt; &lt;arg2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&lt;*.nl&gt; -AMP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colin-xml-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is a COLIN optimizer 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debug-solver-params   Print solver option values before running i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options          Print options for specified solve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solvers-xml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 to a file using an XML forma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s, --help-solvers    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h, --help                  Display usage inform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repetitions           The number of times that the solver is rerun (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 that solver reset() methods work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use-abort             Force an abort when an error occur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verbose               Verbose printing during optimiz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itional optimizer options can be specified within AMPL or the COLIN X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sting Coliny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5392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-solve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s defined in 'coliny'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APPS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Cobyla2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GradientDesc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gradient descent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RandomMO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random multi-objectiv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SimpleMILocal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mixed-integer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XML Input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entralized Parser / Interpr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dependence on factory and registry design patt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ammar may be extend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is an interpreter for the COLIN XML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a compi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ot elemen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“paragraphs” (each may appear more than o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ation problem (i.e. interface to function evalua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the sequence of actions that Coliny should tak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oblem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er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ary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rnal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S Method( fork/spawn or syscall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implest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oblem application="AMPL"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Lfile name="problem.nl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type="colin:ls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John D. Siirola</cp:lastModifiedBy>
  <dcterms:modified xsi:type="dcterms:W3CDTF">2008-12-04T22:08:49Z</dcterms:modified>
  <cp:revision>21</cp:revision>
  <dc:subject/>
  <dc:title>An Introduction to the COLIN Optimization Interface</dc:title>
</cp:coreProperties>
</file>