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694863" cy="7466013"/>
  <p:notesSz cx="7008813" cy="9294813"/>
</p:presentation>
</file>

<file path=ppt/commentAuthors.xml><?xml version="1.0" encoding="utf-8"?>
<p:cmAuthorLst xmlns:p="http://schemas.openxmlformats.org/presentationml/2006/main">
  <p:cmAuthor id="0" name="Sandia National Laboratories" initials="SN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1-04T21:19:10.827000000" idx="1">
    <p:pos x="5507" y="1203"/>
    <p:text>Most optimization solver experts are not user-interface experts ... so why should we expect their software to be generally easy to use by naive users?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B11CE01F-EAEF-4B5F-BB3A-8528E5118E21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42160" y="206280"/>
            <a:ext cx="121932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ehart@sandia.go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3320" y="1098720"/>
            <a:ext cx="822816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COLIN Optimization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crete Algorithms and Math Dep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rebuchet MS"/>
                <a:hlinkClick r:id="rId1"/>
              </a:rPr>
              <a:t>wehart@sandia.go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41360" y="5181480"/>
            <a:ext cx="7219800" cy="1627200"/>
            <a:chOff x="1341360" y="5181480"/>
            <a:chExt cx="7219800" cy="162720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1341360" y="5190840"/>
              <a:ext cx="1928520" cy="16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6622920" y="5181480"/>
              <a:ext cx="1938240" cy="162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Problem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array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 a problem with a domain that is mapped by t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_domain() template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a standard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require domain mapping both to and from the application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Local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earch&lt;array&lt;double&gt; &gt; local_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in solver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up the local optimiz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solver(local_opt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array&lt;double&gt;&amp; x, const vector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may wish to optimize using an opaque data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solver may not know whether this data type supports operations like differenti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d domain trai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ition of a generic class defin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ass DomainClass { vector&lt;double&gt; x; vector&lt;int&gt; y; 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domain traits for derivative inform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emplate &lt;&g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ol OptDomainTraits&lt;DomainClass&gt;::derivative_flag=true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probl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DomainClass&amp; fn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DomainClass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ompute gradient information with this domai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mainClass poin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ctor&lt;double&gt; grad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EvalG(point,grad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2342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nonlinear least squares using genetic programm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2335320"/>
          <a:ext cx="723132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35320"/>
                    <a:ext cx="723132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303880" y="3657600"/>
          <a:ext cx="2789280" cy="24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3880" y="3657600"/>
                    <a:ext cx="278928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3106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decompose search into two pa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nctional fo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ue o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functional form may be differentiable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 of a hybrid evolutionary algorith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genetic program to search for s-express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search to optimiz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Impact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local search methods can be appli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 mapping simplifies the application of loc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29040" y="2697120"/>
          <a:ext cx="191880" cy="2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2697120"/>
                    <a:ext cx="19188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05320" y="4387680"/>
          <a:ext cx="19044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5320" y="4387680"/>
                    <a:ext cx="1904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Librar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: an optimization library of COLIN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es most SGOPT optimizers direct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rappers for a growing number of third-party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84520" y="3205800"/>
            <a:ext cx="5846760" cy="2988000"/>
            <a:chOff x="1784520" y="3205800"/>
            <a:chExt cx="5846760" cy="2988000"/>
          </a:xfrm>
        </p:grpSpPr>
        <p:grpSp>
          <p:nvGrpSpPr>
            <p:cNvPr id="141" name=""/>
            <p:cNvGrpSpPr/>
            <p:nvPr/>
          </p:nvGrpSpPr>
          <p:grpSpPr>
            <a:xfrm>
              <a:off x="6124320" y="3263040"/>
              <a:ext cx="1506960" cy="2841120"/>
              <a:chOff x="6124320" y="3263040"/>
              <a:chExt cx="1506960" cy="2841120"/>
            </a:xfrm>
          </p:grpSpPr>
          <p:sp>
            <p:nvSpPr>
              <p:cNvPr id="142" name=""/>
              <p:cNvSpPr/>
              <p:nvPr/>
            </p:nvSpPr>
            <p:spPr>
              <a:xfrm>
                <a:off x="6181560" y="3263040"/>
                <a:ext cx="14497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AKOT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59240" y="4031280"/>
                <a:ext cx="105120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MP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4320" y="4793040"/>
                <a:ext cx="9619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Exce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37280" y="5496480"/>
                <a:ext cx="104148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NE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784520" y="3205800"/>
              <a:ext cx="1847520" cy="2988000"/>
              <a:chOff x="1784520" y="3205800"/>
              <a:chExt cx="1847520" cy="29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1784520" y="32058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49320" y="38455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15160" y="44848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61080" y="51246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84520" y="57643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304520" y="4484880"/>
              <a:ext cx="1370880" cy="429480"/>
            </a:xfrm>
            <a:prstGeom prst="flowChartPredefined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7" idx="3"/>
              <a:endCxn id="152" idx="1"/>
            </p:cNvCxnSpPr>
            <p:nvPr/>
          </p:nvCxnSpPr>
          <p:spPr>
            <a:xfrm>
              <a:off x="3558960" y="3423960"/>
              <a:ext cx="762480" cy="1276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48" idx="3"/>
              <a:endCxn id="152" idx="1"/>
            </p:cNvCxnSpPr>
            <p:nvPr/>
          </p:nvCxnSpPr>
          <p:spPr>
            <a:xfrm>
              <a:off x="3558960" y="4063320"/>
              <a:ext cx="762480" cy="63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5" name=""/>
            <p:cNvCxnSpPr>
              <a:stCxn id="149" idx="3"/>
              <a:endCxn id="152" idx="1"/>
            </p:cNvCxnSpPr>
            <p:nvPr/>
          </p:nvCxnSpPr>
          <p:spPr>
            <a:xfrm>
              <a:off x="3558960" y="470016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6" name=""/>
            <p:cNvCxnSpPr>
              <a:stCxn id="150" idx="3"/>
              <a:endCxn id="152" idx="1"/>
            </p:cNvCxnSpPr>
            <p:nvPr/>
          </p:nvCxnSpPr>
          <p:spPr>
            <a:xfrm flipV="1">
              <a:off x="3558960" y="4699800"/>
              <a:ext cx="762480" cy="640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7" name=""/>
            <p:cNvCxnSpPr>
              <a:stCxn id="151" idx="3"/>
              <a:endCxn id="152" idx="1"/>
            </p:cNvCxnSpPr>
            <p:nvPr/>
          </p:nvCxnSpPr>
          <p:spPr>
            <a:xfrm flipV="1">
              <a:off x="3558960" y="4700160"/>
              <a:ext cx="762480" cy="1280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8" name=""/>
            <p:cNvCxnSpPr>
              <a:stCxn id="152" idx="3"/>
              <a:endCxn id="142" idx="1"/>
            </p:cNvCxnSpPr>
            <p:nvPr/>
          </p:nvCxnSpPr>
          <p:spPr>
            <a:xfrm flipV="1">
              <a:off x="5660640" y="3568320"/>
              <a:ext cx="489600" cy="1132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43" idx="1"/>
            </p:cNvCxnSpPr>
            <p:nvPr/>
          </p:nvCxnSpPr>
          <p:spPr>
            <a:xfrm flipV="1">
              <a:off x="5660640" y="4336560"/>
              <a:ext cx="491040" cy="364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2" idx="3"/>
              <a:endCxn id="144" idx="1"/>
            </p:cNvCxnSpPr>
            <p:nvPr/>
          </p:nvCxnSpPr>
          <p:spPr>
            <a:xfrm>
              <a:off x="5660280" y="4700160"/>
              <a:ext cx="487800" cy="39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52" idx="3"/>
              <a:endCxn id="145" idx="1"/>
            </p:cNvCxnSpPr>
            <p:nvPr/>
          </p:nvCxnSpPr>
          <p:spPr>
            <a:xfrm>
              <a:off x="5660640" y="4700520"/>
              <a:ext cx="489600" cy="11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Impac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optimization middle-ware that eliminates the need for separate interfaces for each new optimization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49600" y="2977200"/>
            <a:ext cx="5847120" cy="2988000"/>
            <a:chOff x="1749600" y="2977200"/>
            <a:chExt cx="5847120" cy="2988000"/>
          </a:xfrm>
        </p:grpSpPr>
        <p:sp>
          <p:nvSpPr>
            <p:cNvPr id="165" name=""/>
            <p:cNvSpPr/>
            <p:nvPr/>
          </p:nvSpPr>
          <p:spPr>
            <a:xfrm>
              <a:off x="6147000" y="3110760"/>
              <a:ext cx="14497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DAKO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24680" y="3879360"/>
              <a:ext cx="105120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AMP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9400" y="4641120"/>
              <a:ext cx="9619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Exc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2720" y="5344560"/>
              <a:ext cx="104148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NE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749600" y="2977200"/>
              <a:ext cx="1847520" cy="2988000"/>
              <a:chOff x="1749600" y="2977200"/>
              <a:chExt cx="1847520" cy="2988000"/>
            </a:xfrm>
          </p:grpSpPr>
          <p:sp>
            <p:nvSpPr>
              <p:cNvPr id="170" name=""/>
              <p:cNvSpPr/>
              <p:nvPr/>
            </p:nvSpPr>
            <p:spPr>
              <a:xfrm>
                <a:off x="1749600" y="29772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4400" y="36169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0240" y="42562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26160" y="48960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49600" y="55357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5" name=""/>
            <p:cNvCxnSpPr>
              <a:stCxn id="170" idx="3"/>
              <a:endCxn id="165" idx="1"/>
            </p:cNvCxnSpPr>
            <p:nvPr/>
          </p:nvCxnSpPr>
          <p:spPr>
            <a:xfrm>
              <a:off x="3524040" y="3195000"/>
              <a:ext cx="2591280" cy="22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6" name=""/>
            <p:cNvCxnSpPr>
              <a:stCxn id="171" idx="3"/>
              <a:endCxn id="165" idx="1"/>
            </p:cNvCxnSpPr>
            <p:nvPr/>
          </p:nvCxnSpPr>
          <p:spPr>
            <a:xfrm flipV="1">
              <a:off x="3524040" y="3415680"/>
              <a:ext cx="2591280" cy="41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7" name=""/>
            <p:cNvCxnSpPr>
              <a:stCxn id="172" idx="3"/>
              <a:endCxn id="165" idx="1"/>
            </p:cNvCxnSpPr>
            <p:nvPr/>
          </p:nvCxnSpPr>
          <p:spPr>
            <a:xfrm flipV="1">
              <a:off x="3524040" y="3415320"/>
              <a:ext cx="2591280" cy="105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8" name=""/>
            <p:cNvCxnSpPr>
              <a:stCxn id="173" idx="3"/>
              <a:endCxn id="165" idx="1"/>
            </p:cNvCxnSpPr>
            <p:nvPr/>
          </p:nvCxnSpPr>
          <p:spPr>
            <a:xfrm flipV="1">
              <a:off x="3524040" y="3415680"/>
              <a:ext cx="2591280" cy="1696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9" name=""/>
            <p:cNvCxnSpPr>
              <a:stCxn id="174" idx="3"/>
              <a:endCxn id="165" idx="1"/>
            </p:cNvCxnSpPr>
            <p:nvPr/>
          </p:nvCxnSpPr>
          <p:spPr>
            <a:xfrm flipV="1">
              <a:off x="3524040" y="3415680"/>
              <a:ext cx="2591280" cy="23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0" name=""/>
            <p:cNvCxnSpPr>
              <a:stCxn id="170" idx="3"/>
              <a:endCxn id="166" idx="1"/>
            </p:cNvCxnSpPr>
            <p:nvPr/>
          </p:nvCxnSpPr>
          <p:spPr>
            <a:xfrm>
              <a:off x="3524040" y="3195360"/>
              <a:ext cx="2592720" cy="990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1" name=""/>
            <p:cNvCxnSpPr>
              <a:stCxn id="170" idx="3"/>
              <a:endCxn id="167" idx="1"/>
            </p:cNvCxnSpPr>
            <p:nvPr/>
          </p:nvCxnSpPr>
          <p:spPr>
            <a:xfrm>
              <a:off x="3523680" y="3195360"/>
              <a:ext cx="2589480" cy="175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0" idx="3"/>
              <a:endCxn id="168" idx="1"/>
            </p:cNvCxnSpPr>
            <p:nvPr/>
          </p:nvCxnSpPr>
          <p:spPr>
            <a:xfrm>
              <a:off x="3524040" y="3195360"/>
              <a:ext cx="2591280" cy="245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3" name=""/>
            <p:cNvCxnSpPr>
              <a:stCxn id="171" idx="3"/>
              <a:endCxn id="166" idx="1"/>
            </p:cNvCxnSpPr>
            <p:nvPr/>
          </p:nvCxnSpPr>
          <p:spPr>
            <a:xfrm>
              <a:off x="3524040" y="3834720"/>
              <a:ext cx="2592720" cy="35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4" name=""/>
            <p:cNvCxnSpPr>
              <a:stCxn id="171" idx="3"/>
              <a:endCxn id="167" idx="1"/>
            </p:cNvCxnSpPr>
            <p:nvPr/>
          </p:nvCxnSpPr>
          <p:spPr>
            <a:xfrm>
              <a:off x="3523680" y="3834720"/>
              <a:ext cx="2589480" cy="1112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5" name=""/>
            <p:cNvCxnSpPr>
              <a:stCxn id="171" idx="3"/>
              <a:endCxn id="168" idx="1"/>
            </p:cNvCxnSpPr>
            <p:nvPr/>
          </p:nvCxnSpPr>
          <p:spPr>
            <a:xfrm>
              <a:off x="3524040" y="3834720"/>
              <a:ext cx="2591280" cy="1815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2" idx="3"/>
              <a:endCxn id="166" idx="1"/>
            </p:cNvCxnSpPr>
            <p:nvPr/>
          </p:nvCxnSpPr>
          <p:spPr>
            <a:xfrm flipV="1">
              <a:off x="3524040" y="4184280"/>
              <a:ext cx="2592720" cy="28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7" name=""/>
            <p:cNvCxnSpPr>
              <a:stCxn id="172" idx="3"/>
              <a:endCxn id="167" idx="1"/>
            </p:cNvCxnSpPr>
            <p:nvPr/>
          </p:nvCxnSpPr>
          <p:spPr>
            <a:xfrm>
              <a:off x="3523680" y="4471920"/>
              <a:ext cx="2589480" cy="47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8" name=""/>
            <p:cNvCxnSpPr>
              <a:stCxn id="172" idx="3"/>
              <a:endCxn id="168" idx="1"/>
            </p:cNvCxnSpPr>
            <p:nvPr/>
          </p:nvCxnSpPr>
          <p:spPr>
            <a:xfrm>
              <a:off x="3524040" y="4471920"/>
              <a:ext cx="2591280" cy="117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9" name=""/>
            <p:cNvCxnSpPr>
              <a:stCxn id="173" idx="3"/>
              <a:endCxn id="166" idx="1"/>
            </p:cNvCxnSpPr>
            <p:nvPr/>
          </p:nvCxnSpPr>
          <p:spPr>
            <a:xfrm flipV="1">
              <a:off x="3524040" y="4183920"/>
              <a:ext cx="2592720" cy="927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0" name=""/>
            <p:cNvCxnSpPr>
              <a:stCxn id="173" idx="3"/>
              <a:endCxn id="167" idx="1"/>
            </p:cNvCxnSpPr>
            <p:nvPr/>
          </p:nvCxnSpPr>
          <p:spPr>
            <a:xfrm flipV="1">
              <a:off x="3523680" y="4945680"/>
              <a:ext cx="2589480" cy="165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1" name=""/>
            <p:cNvCxnSpPr>
              <a:stCxn id="173" idx="3"/>
              <a:endCxn id="168" idx="1"/>
            </p:cNvCxnSpPr>
            <p:nvPr/>
          </p:nvCxnSpPr>
          <p:spPr>
            <a:xfrm>
              <a:off x="3524040" y="5111280"/>
              <a:ext cx="25912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2" name=""/>
            <p:cNvCxnSpPr>
              <a:stCxn id="174" idx="3"/>
              <a:endCxn id="166" idx="1"/>
            </p:cNvCxnSpPr>
            <p:nvPr/>
          </p:nvCxnSpPr>
          <p:spPr>
            <a:xfrm flipV="1">
              <a:off x="3524040" y="4184280"/>
              <a:ext cx="2592720" cy="156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3" name=""/>
            <p:cNvCxnSpPr>
              <a:stCxn id="174" idx="3"/>
              <a:endCxn id="167" idx="1"/>
            </p:cNvCxnSpPr>
            <p:nvPr/>
          </p:nvCxnSpPr>
          <p:spPr>
            <a:xfrm flipV="1">
              <a:off x="3523680" y="4946040"/>
              <a:ext cx="2589480" cy="80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4" name=""/>
            <p:cNvCxnSpPr>
              <a:stCxn id="174" idx="3"/>
              <a:endCxn id="168" idx="1"/>
            </p:cNvCxnSpPr>
            <p:nvPr/>
          </p:nvCxnSpPr>
          <p:spPr>
            <a:xfrm flipV="1">
              <a:off x="3524040" y="5649480"/>
              <a:ext cx="2591280" cy="102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nal Though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has had significant impact on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optimization software develop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domain hybrid optimization is eas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rete-continuous modeling of dock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interfaces have made it easy for me to integrate Coliny solvers into other 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standard parameterization mechan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doesn’t take too much effort to ‘Colinize’ a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taken 200-600 lines of co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support for implicit algorithmic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this is exploited by Sandia’s DAKOTA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we need a standard, modular interface for general-purpose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imization methods are widely applied in many disciplin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-experts are often the biggest user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ptimization codes have been develop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are many different optimization strateg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ations of any one strategy reflect different design trade-off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interfaces can be very different, even for the same of optimization strategy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730000"/>
                </a:solidFill>
                <a:latin typeface="Trebuchet MS"/>
              </a:rPr>
              <a:t>Most optimization solver experts are not user-interface experts ... so why should we expect their software to be generally easy to use by naive use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and Coliny are a packages in the Acro optimization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couple two (or more) optimizers toge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memetic evolutionary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 performs glob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optimizer called to refine solu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we need a standard interface to initialize and launch the local optimizer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bject-Oriented Desig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Such a general interface should employ OO design princip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modularity (encapsulatio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reuse (sharing, inherita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tages of OO for optimization (Mez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r user-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, Solver objec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tter program interface for us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reverse-communication violates standard coding practi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 the development of new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modulariz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reus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Line sear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urrent OO Optimization Softwa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7000"/>
          </a:bodyPr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O optimization solvers have been implemen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OCHO – reduced SQ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O – large-scale quasi-Newt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OOL – general nonlinear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 – design engineering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GOPT – stochastic global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ICO – parallel branch-and-bou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lib – genetic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different software packages use different OO abstraction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representing array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l::vector, BasicArray, DakotaArray,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provide a common interface for optimization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sily extensible C++ components to wrap third-party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s plug-and-play of optimizers for hybrid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specify real parameters for generic search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ynamic mapping between problem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our goal is not to create the ‘best’ OO optimization class heirarchy … whatever that mea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Major Class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1240" y="1590120"/>
            <a:ext cx="8063640" cy="4578480"/>
            <a:chOff x="831240" y="1590120"/>
            <a:chExt cx="8063640" cy="4578480"/>
          </a:xfrm>
        </p:grpSpPr>
        <p:sp>
          <p:nvSpPr>
            <p:cNvPr id="104" name=""/>
            <p:cNvSpPr/>
            <p:nvPr/>
          </p:nvSpPr>
          <p:spPr>
            <a:xfrm>
              <a:off x="1852920" y="3934080"/>
              <a:ext cx="18079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1240" y="2637360"/>
              <a:ext cx="15001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Solv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59240" y="5148720"/>
              <a:ext cx="2162880" cy="42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Applic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4" idx="2"/>
              <a:endCxn id="106" idx="1"/>
            </p:cNvCxnSpPr>
            <p:nvPr/>
          </p:nvCxnSpPr>
          <p:spPr>
            <a:xfrm flipH="1" rot="16200000">
              <a:off x="2666160" y="4479480"/>
              <a:ext cx="975240" cy="7945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"/>
            <p:cNvSpPr/>
            <p:nvPr/>
          </p:nvSpPr>
          <p:spPr>
            <a:xfrm>
              <a:off x="6043680" y="1590120"/>
              <a:ext cx="285120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66648"/>
                <a:gd name="adj5" fmla="val 103564"/>
                <a:gd name="adj6" fmla="val -1328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solver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5" idx="2"/>
              <a:endCxn id="104" idx="1"/>
            </p:cNvCxnSpPr>
            <p:nvPr/>
          </p:nvCxnSpPr>
          <p:spPr>
            <a:xfrm flipH="1" rot="16200000">
              <a:off x="1234080" y="3436560"/>
              <a:ext cx="1059480" cy="3675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6303960" y="2949840"/>
              <a:ext cx="259092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53615"/>
                <a:gd name="adj5" fmla="val 115546"/>
                <a:gd name="adj6" fmla="val -106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problem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6960" y="4398840"/>
              <a:ext cx="2617920" cy="1769760"/>
            </a:xfrm>
            <a:prstGeom prst="borderCallout2">
              <a:avLst>
                <a:gd name="adj1" fmla="val 18750"/>
                <a:gd name="adj2" fmla="val -8333"/>
                <a:gd name="adj3" fmla="val 5703"/>
                <a:gd name="adj4" fmla="val -15768"/>
                <a:gd name="adj5" fmla="val 48055"/>
                <a:gd name="adj6" fmla="val -290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Internal class used to manage the interface to a user’s application c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COLI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A test fun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vector&lt;double&gt;&amp; point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n optimization problem cla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 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set_parameter(“domain”, “[-1.0,1.0]^3”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 sMC optimiz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arameter(“max_neval”,100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reset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Perform minimization and print the best valu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minimize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ut &lt;&lt; opt.min_val() &lt;&lt; endl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defines an application with a specific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 solver objects may use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is unreasonable to ask the user to adapt their application code for each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a generic domain mapping function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wehart</cp:lastModifiedBy>
  <dcterms:modified xsi:type="dcterms:W3CDTF">2007-09-20T02:07:20Z</dcterms:modified>
  <cp:revision>3</cp:revision>
  <dc:subject/>
  <dc:title>An Introduction to the COLIN Optimization Interface</dc:title>
</cp:coreProperties>
</file>