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50969"/>
        <c:axId val="67673086"/>
      </c:barChart>
      <c:catAx>
        <c:axId val="86350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3086"/>
        <c:crosses val="autoZero"/>
        <c:auto val="1"/>
        <c:lblAlgn val="ctr"/>
        <c:lblOffset val="100"/>
        <c:noMultiLvlLbl val="0"/>
      </c:catAx>
      <c:valAx>
        <c:axId val="67673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50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AED-BD7C-487A-B069-287C1FCC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C11-F720-4D6B-957A-A3A946A8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DEB-5FE2-45E1-A313-2A88C6A9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DDF-C7D2-4130-ACB9-122F22F5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F0A-AF30-4BA5-BF5D-A570C95F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200-DC22-4656-9DC6-A178532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61B-C74E-4823-A566-9A113052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00F-2940-4A59-AEC1-9F90D345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C95-2202-4F10-86FC-96F7F1A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06E-8E3E-4024-BBB8-3E3E8B52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DA4-A44A-4DCC-8055-5CF1EB11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F6D-951A-41B5-8C84-CDA89AD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62121-B42F-4FF5-B676-BB0773864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