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7846"/>
        <c:axId val="16661182"/>
      </c:barChart>
      <c:catAx>
        <c:axId val="5427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61182"/>
        <c:crosses val="autoZero"/>
        <c:auto val="1"/>
        <c:lblAlgn val="ctr"/>
        <c:lblOffset val="100"/>
        <c:noMultiLvlLbl val="0"/>
      </c:catAx>
      <c:valAx>
        <c:axId val="16661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7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B28-792C-4088-80CA-DE12CDAE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814-8D97-4D66-8A16-73775FCE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FD9-C266-4A30-8C14-8688DDC7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DC1-84A0-4425-BCAC-EA18D59F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0E5-89ED-491C-A8E9-E79FB8BC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BFF-4EEC-40BC-9B21-AABD4765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E59-0489-4232-9E32-4F959F3B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3C4-68FF-49BE-85C2-927DE650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89D-E51E-47EA-AA44-9091EEA2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198-AB4C-422E-9872-E92CA4B4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FBD-AD82-4954-9A20-FC26B711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7EF-BF8F-42F8-8322-B5226F40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1AC3E-BC92-480A-9341-0F6F8435F4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