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54AC-EF90-4249-BAC5-2CCEE4F75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F04-9F03-42DD-B5BF-7FC32A7F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538976-ED0D-4B39-B7E4-74ED99AA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70533-06B0-4B5B-98E8-086A9BDC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BBDE4-FFDD-49B1-BDA0-DF7F34F9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F5C39-D4E0-4AE7-AE52-63FC8C48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72A9B-4FDB-45C9-AC1B-525C2660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799D5-C18E-42B8-8262-731106F0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951F3-C67F-4BE7-BB19-F10110BF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9486C-5D96-4105-9B25-777A1E56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E27C3-7B4A-4D22-A3E2-D5897B9C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E53C5E-50F8-49AE-803C-F843F3E5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A0ED-B3FE-4372-B0F7-01EA1D49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DA74B5-2E91-462B-ADD2-C6F80C6D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4D717E-328C-4295-9F8D-9032CE88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23205C-2110-400F-AF02-E407614C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270DF3-5C88-4155-9483-5DE80311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211F92-E76B-4C99-B1EC-BA3AD2FA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FBBE33-4C51-4DFD-A6BC-F6DF6808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84D59F-9C6F-4D80-B6D1-120384F9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77ED4C-E155-4656-9CDB-89D55623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11B7AA-9216-4C1E-A2C8-916CE752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B12472-3405-48CC-9FC8-7F9D0E70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21D-04F8-4186-B7D5-B067BC4D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5835A9-047A-4321-96C4-EDBD2A94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5EC56-B322-4F22-9A6F-AFBB80F8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BCA3C-6B0C-4BB4-84F1-A3C198C7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B09DE-E198-4534-A4CF-94A73AB4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732AF-903C-4F3E-8464-5FBA8E82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20C31-68B7-48F2-8E36-641FAA3B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01FE0-5C17-4525-8294-1FB7C0E5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92A3D6-D794-4526-AAB7-3FDE33D7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DE2867-DE13-402B-8C08-CA90DCB3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C732C-A600-4CB7-B0CF-525A98A4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4BED-B66E-4EBA-BAAF-1D365C669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CF9B7-493B-4B4F-AB19-7B82C63DE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5FF6F3-BA6C-4212-9981-8604B383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B684C-9D35-4587-BC4A-237592BFB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B325E-1FEE-48F4-971B-C9AA363A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22358-F1B8-4063-9661-21DF786C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E5D15-CE90-4AA2-A9A6-5A7EE972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450E51-D533-4A65-B963-1598774F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9E0E9-6C47-4F6A-A5BC-04FC46CE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66FA0-590B-4057-A97A-B5E360D1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2FD40-26B4-4F57-BAE6-6619BF5A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5466-61D3-4279-987A-7FC4A33F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BDD71-6335-4478-AE48-A22B43D4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AAF66-F6B3-47C5-ACC7-5BED94C8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984FB-914F-4311-B775-1252000F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AB9AC-50EB-4C06-897B-D691DE90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84B35-5F08-49B3-AE05-35DDD358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2F08-5061-4C83-AE1F-7D7B6DD4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09B1-759E-493E-A5ED-1B2E3EDA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C900-A3BC-4AB6-85AA-9375E4B2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E08CC-420C-4C96-B398-E8F6D7B5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5720C-5C5C-483E-ACCE-7969DC6C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7122-A8C2-470F-AACB-6C10B418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F7EF-A98D-4FBC-9F31-F030156F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6EAD-F1F0-4B12-A08A-7CE872E2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6074-26FD-49B4-A4E1-3EE091BC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18B3-7C43-44D6-AF1A-D8298623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874B-EA37-4894-950A-4844C177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CBEBB-E0B5-41D2-A305-013E1EE1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6EA8E-C341-4303-9499-913EB82A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98A14-5106-4764-BA5C-675A61F3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FDF97-1185-49FE-9E5E-D671CC4D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F2EC6-00E8-4390-ABC7-81E1F88F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8E4-DA71-472F-B262-2F876E5E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D7897-9619-46A5-9800-08375B91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02496-B21A-4650-B750-E8190559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0E7AB-77B0-484F-8BC8-30180363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E44A2-BAE2-41A8-BE2A-50599E8C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77953-F74C-41ED-987B-254CA5D6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0F1F-8AAF-40AC-BC49-B0CF8AFA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9B7A5-310B-48E2-9DE8-C9533B09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6132A-B0E7-421A-AFD2-B52FD146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8A258-8B85-4395-968B-93A36383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CBB02-872D-4098-AAA0-F551070F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C917-1184-442A-8CFF-F5197C64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4F57C-EBE0-4ACB-86E5-23869734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F4516-8110-4A40-ACBC-BEF0194C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3BAD8-4777-4472-AF8B-0F6DCF12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9A530-B81B-43AB-B718-DD397FEC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A2FF6-9B93-49D2-8E15-74630944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5CA11-2684-441C-AB09-1A1C8B44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8AADD-6C3E-4CA3-8E63-C89CEC5C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D7C1D-0FEE-42B4-A3B8-3F1FEC25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68190-C8B9-40BF-AA1F-C8A8B42C3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9E7C55-E3FB-4BD8-9F5D-A94002E8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0D11-4791-45B3-92AB-B402BE8F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E2D06A-03FA-4722-8740-B2944B444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EBA7D0-3CA7-4C89-82DF-C34CE0F7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273B1-D20A-4579-A5F3-94A95C3B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61460-0453-4B90-AF24-FA115EDF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2C79D-4013-48BA-95C2-4ABBC4B7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4277B5-D435-4CBF-B078-75DAB3FA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A9FE62-E2E8-45BC-A5A5-3608E5FA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BA9108-F646-4FFA-846E-D1441590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1DC3BF-1FC4-4F57-AF9A-12AE6A84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09256-BB03-4D10-8508-1CE4854F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9AD-9D8B-4F36-BD4A-6979A5FE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5833E-0B14-4785-82DB-2875EAF1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CC03F-52B1-4596-9A7A-5763E0BB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19F2E-8C38-4151-9EB1-6F672ED7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E6E9E-3092-422E-9609-E94B2E42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71A4A-6EA3-48E8-97DE-E852AA71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D66D1-CC4F-41D4-912B-8C9908D5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04D04-2F69-4E5E-ABBE-57AB69B2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AE691-B7DA-4F25-B5AC-4CC46845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BC173-5FA3-4E54-9CE1-B3BE9B21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88357-A3FB-43BB-98B8-04235AF1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84FA-45E8-4B91-9E8C-52167AE3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19B20-C9C8-407D-A15F-BC1601F8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C62F8-FB84-493C-AF1F-C03144C8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621EC-20C1-489F-B598-DC2AD9749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3523B-7834-4B21-9CB1-76900F8D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76335-2CDD-4738-B417-E7112FF8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6555D-AE96-45D6-B247-5D94C32C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ACD98-4189-4A1F-AFB2-63E5AABC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261C8-84E3-4547-9D12-66245C69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06750-C050-4D1D-9D18-0327C21C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7CA6A-D443-45D5-A802-D9FA2A55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599-5F9E-4301-9EFC-96A01534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FCD01-9575-4893-B154-CD4A4DCE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FD807-6167-4B2B-9D7D-22A22A54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C1102-2E35-4B6F-8BC6-4511FAED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25BB4-3240-4FC5-B5C0-8041E84F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810C3-4974-4D6D-83B8-66C3539E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50215-E8DD-482C-9F7F-385E30851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654BE-E0C9-433A-B103-DB402CF2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7FE0E-45B6-425C-8365-3B0ED182D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924CB-5D81-4C1E-B8C6-2FFDF20F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C0C4F-BF3A-4825-BFE7-1B01DF63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45B4-020C-4DE1-9A8B-71E6A471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ACC51-0335-41A5-A183-1EAD68C3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753CF-7089-4225-9B4F-6E045558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8187E-002F-4FBF-B46A-8CDC3B4B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65333-1161-4501-8859-129B2C4D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B96E3-AE28-44C1-A591-B323BFD6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F1742-69CD-4120-81D7-4EFA19DD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1F48F-FABF-40FA-9A6D-5C18D994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30E8E-B66C-4981-9851-4C386DE6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C706A-0CE7-44EB-9AC9-F0FA2E1D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02D31-C40C-495D-A8F4-CCBD2F89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103D-0801-4773-9BD7-BF817FFACE2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C7C7-0B66-4E87-A828-708302C1A7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3DBF-5D67-45E2-8A38-CD6FCA2E14B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27C9-EF75-46B1-B6BA-CEBD7D660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742E-6C60-4A7B-AB62-7BD8B372543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858D-A001-437C-BD3F-C85B00B9473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C06F-7B42-410C-BDF0-9572F5C8076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F721-799B-4E00-8B2A-13B9EF95752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87BF-7BE7-4C85-B4BE-DB6A3BF3F42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6C70-71F7-47A2-AE78-F77BB8E9163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6304-3446-4C60-B18E-70C957FC03D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0FEC-8F73-4982-B47B-1C499A7DE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4ADD-F4AC-42A4-B925-066D5163277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F521-05CD-4915-8CFA-B49AFD3A5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36E7-637F-43EE-9777-B76B296DFDC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006D-9013-41F7-B74C-CFCB624F8B6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EEA5-B68B-40EF-A05D-46211333DF7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676D-8A71-4D70-B7B8-E4207C6967B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4304-24BC-4145-80DB-C487CEB525AF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F2B5-8DEF-4691-BE5D-105EFBA761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0673-8EB5-45F7-A3C7-7561A57E7ED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8020-EA3C-4C60-9ED0-64A044AA532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4A62-E424-4379-A041-3CA568E388F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F23E-FF4B-4A9F-8515-0DEE5ED89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96D-80AC-4F37-85EB-C0197E9E3D9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D869E-64FC-4245-9E2D-EFF9946A592F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DF176-40DB-4FA9-B82F-7F8B08C805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9F05BB6-7187-400A-93EB-788003DA8C33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4C710-581C-409D-80F5-70C28751BF29}" type="slidenum">
              <a:t>3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90FA9-3B67-4C4A-8708-B8F312A3AE0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16C1C35F-B0BD-4E24-9052-524E6485308F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99DDA-F050-4611-B858-825287B48F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D438C3B9-3224-4C4A-B8E1-CCA8C5B82F98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AC30A-5C55-406A-8738-977C8BDAB62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3A3DAEF3-2A2A-4DA2-BA1A-2408E69E50CE}" type="datetime1">
              <a:rPr lang="en-US"/>
              <a:t>07/28/26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