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0CCF-2947-4D91-AFBA-CF4DCEB16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548B-85E7-42B8-BCA4-698880A0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5F7F8-04EA-44D8-9892-958C1C16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84651-58F8-432E-A1BD-FAB69F24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8A350D-DA21-41F2-8BDA-DD6AA2C6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7D92A-1FCD-4378-867F-1444CA3A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964F9-A867-426E-9BF8-D63EE1CC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BD6E0-6464-431D-A09B-EA343324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06F08-980E-4040-A1A2-95C2DE05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4EE31-B589-4D3D-B944-FDCCCBF43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B2E52-EAEA-43AB-BC01-BCCA99CAF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FD8E16-3918-445B-974A-F49380E2F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A698-D5F2-4B57-9E54-3CC5153A1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BA7BD3-88D9-4CF3-86F2-1CF469DE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9BB5F9-AFFA-4DD2-A524-D2E87630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18B597-D2F8-4860-AF5B-4BFEE7D3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80A318-714F-4151-ADDD-BE7701F9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D1DD59-45AA-4C00-B549-E6D7F768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56ADA8-4F22-445B-9178-1EC471DF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558594-5429-411D-A4E7-39619732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685F65-E600-471A-AF74-121FFA10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A9B13A-472B-4A1E-A185-84C86160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E8EF2D-373A-4BFD-A2AE-F605DEE6B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CB3E-2D91-4726-A283-40414C3F7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2F28CB-9B17-4011-B94C-C0EB263E0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8FB61-0D1A-4315-AE0E-BBF21D9B4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8A842-08FD-469F-B3F4-F8F39F6D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DD310-D177-4CD0-A520-C80B45CB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5F8E6-3020-46E3-B634-A1438EB6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8091C-DDD2-4084-95CE-87CC2306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C1BBB-8191-409F-92D9-52280D65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D1790-479E-4E5B-93FF-FD8BDF28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79FC6-07FC-440A-A395-61874F5F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AF043-EA6A-4559-B97E-C8C0326F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7AE6-EB05-437E-BF41-DB104BA02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0FDF0-C6D6-47DF-B130-8B7A242C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682FC-D9BE-4DFA-8393-8067C29B2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C588E-C511-4F0B-9F4B-CD9457CB8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059190-C6B1-412E-AE46-61EEE1D87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C7955A-8AF7-44D2-AA23-96A68E11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5D6773-789C-4F32-AB86-EBD0A2A8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3B1596-91E9-4CE5-962B-369BB75D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E144B5-B155-408A-B269-7C691F2E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D47CA9-2A26-4268-BFBA-E83C171C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6D7510-7F11-4342-9A97-E93B3825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A28F-5B77-4FE1-B540-D9D88AC8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A4B250-5486-48ED-BB08-62C20E18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A27ED-27E6-4539-BE9C-A890B3BE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5A72C7-3CD7-445F-9AB0-A319A26B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2A294-DAD7-487B-9146-2F6C2C830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BF8C4E-24E9-47BA-B27A-4963A9175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7D79-1C68-48DA-A23E-97B386D2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1DF2-7BC8-40B9-ABCF-85295AD1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6D94-0313-4BD1-87AE-FC7A5CBB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15BF-4E72-4B37-8E47-376CA3BB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17E3-88C0-4C25-97F6-0088D4D1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DE5A-69A5-44F3-ABCB-04EF5762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F1A8-ABFC-4CD3-BD2B-253391AC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30D3-7BFC-4CE0-BCC9-910F5499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52A6-3198-423D-AF13-D042A1C3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3032-F2B8-4A36-A699-860213604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C34C-9D5B-4130-BFBC-B033918AF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7128C-545A-4F01-9BF0-BA5F37F4B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FB4FA-9885-44C2-A8EE-8504FDAF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1AB5B-3803-41F2-9C67-90BA634E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5B078-E834-4109-BAED-A15B62F9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73543-E231-4D48-A368-0653BD87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7A8B-D293-4960-BB4F-F2A0337E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0CE6B-DE0D-47C6-980A-8A57FF5F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F31B6-3400-4D6D-8D23-965CE04D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A3C68-58CD-428D-9176-EB1810CE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96F70-1F86-4FC9-8705-3F067667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3879A-0D20-4EA8-B35A-E9E6D893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354A4-67E0-4F43-ABF4-4E851DC81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087DB-D4E4-4F1D-85F1-D971299D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52335-24C1-45B9-9BB1-601304BE0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4B920-573F-4C06-BFC8-B97DBC49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11D5F-434B-4E59-A442-D5BFA471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70FF-898A-4F3A-9F49-B9A8CD28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4CA5C-DFE4-413E-A67D-FC692663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EA2BA-EE1B-4CA5-9E7F-96D22F4B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8306D-2382-4FA5-AD15-B7217614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EF58B-24BF-4E85-975C-F7046F26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E20E7-EE6A-4305-805D-F16C3F9E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29B6D-9FBF-4368-8A33-A2CF761D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F2A02-71BD-4AB8-ABB9-0ABF6A3B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26516-D1E3-44FE-AB7C-4485CE03E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A175E-4562-4DFE-B454-D26637419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B5A17C-9614-467C-B687-4BC9E936D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260A-ED6D-4FD8-AD81-D8A865E7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A09C72-1D5C-416A-A71F-04DCE900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DEA8EA-FF27-4ABC-ACC0-CB5445F9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4153B2-BF9E-4199-B1A6-95675855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FDCD5F-089B-436B-8EAF-17A4611D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A63180-57ED-41A6-B900-409F3504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15A181-5C5D-4D75-B147-B9BED675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804F96-F16C-41E9-B7EC-7FF70D26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AB262F-61C6-40E2-8C86-7C898377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3C9A34-B686-4B46-859B-8AA7F274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35B856-99A6-45B9-BFEB-206F58756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B042-C718-4AA8-94BD-12997DD9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D359DD-1C75-48C9-83A0-0C5591CD6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B7849-8404-492B-8EF1-07224340D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00831-EE8E-4BF6-934A-691E10A7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56C5E-B9E2-48C8-B65F-EE98B360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A0231-EE2D-49B0-A50B-4B851A4C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C1F4A-D50B-4F42-9FF3-1EE08F25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031BA-CE9C-4875-906A-F29A544E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5BEEA-F8ED-453D-B411-2EED6068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EDCB8-0049-4D2F-853D-9B7282AA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F8C60-71CC-4579-8271-1D1F4710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C061-53A7-4AA9-B2D9-D0D5A358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435C0-C871-434E-84AA-483AAC11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37B87-67F8-497E-9A23-EF441517E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18165-7CB6-4FE8-BF18-810A77C6C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28516-2F6B-4AA0-9C97-4872793B2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75F3A-F864-44BA-B4C6-D90AE766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B871A-81DA-43C3-849F-CB7F0B2B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1A9F0-174F-467E-8110-A8EC1D86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993D7-98E7-4ED8-9E3A-FB32ABB8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0FFE7-9CED-47E6-88F9-FE814F66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C4175-EC5D-4273-B524-ECB31528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333B-784B-40EE-86C3-3C564E92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3D25C-70F6-4BF7-8ACC-77E6262C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5DC67-FAC6-4424-B162-285AE1F4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42AB3-7346-47A5-8E01-B6132660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23EE5-DFC4-4317-9609-ECF6FBB0F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41EF3-D269-44DA-9158-F4A8396D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60E4A-918B-4022-9B52-BA3F7079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ECECA-8D2A-4A4E-B58F-6E722794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895BE-C224-451B-AD00-06266958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67B7B-C263-4A6B-82A1-67A91EB8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9E76F-A354-4A28-9FA7-DA1F0BD1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AC18-EE6F-48B4-B07E-620972FF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388CD-3FDA-4B9B-BE02-31B71C6C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B2CC9-3B0F-4232-A5CE-A231FD09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38AF5-F39A-4BA8-87CF-6BF2F75F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08141-526A-4664-8247-4B2F25F2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CF51F-9A6D-408E-97D1-E93C904C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F56A4-D107-40B9-8016-914DC9370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D923B-A321-48B5-AED7-8B278D3CC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B9155-50DA-4731-8BD3-9CA12EDD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8E9F7-FD86-4D1A-9098-84F35ED2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479C6-8980-4369-8503-9735163B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3193-E8C7-44E4-8919-CE6AE135981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8E8C-C866-456D-928D-34C00550EFC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A6CE-91D5-455A-B5B5-98E047ADB39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4E6D-3CFC-4CB0-9A88-87D1C085C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5290-1D19-460D-90E8-94C898B0E829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3B28-54CD-41BD-BA98-57D807096E7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7789-6E6F-4DAE-B19D-F12C84934D6D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2E71-A09D-4E41-9BE6-8079F6C9E45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0ADD-0C20-437F-8AED-0A8F73E5CF4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EB28-4298-46FA-BACA-5E05F1687E7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870F-EA61-414F-89A7-8CE52632C3C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599C-2F0D-4F36-9461-C7845B8FA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54AE-1AB0-4825-9703-DEFFD66EB06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1CA5-6E80-4C99-A38B-E0E2B445C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1882-CEC1-4F7A-AB6D-D5E39B27553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DAEA-68F9-4308-8C1A-58F747BF315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61FE-BE45-4678-B9BF-A890C2768A7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FE9C-933B-40A4-AF21-397C64F7334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21C4-8805-4F03-852A-8F6DB112669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D2A4-AD23-49C7-B3FD-D5469C021D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C99F-DE56-4A43-8181-7B09B0187E0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5381-2C3C-4311-A7A7-2E8A3EF78EE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E8EC-93DA-469E-AF38-590BA3D13B7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2482-B56E-476A-8894-7DE36D165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E39F-2659-4340-9FD1-E7B0DE5FFE8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FD2EE0-49B0-4CD6-99BF-CE229C1269BF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0C312-A99D-46B2-B096-5AD7361073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B8ED5699-C772-4C4D-82EA-E31C165354CE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24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2372F-E82E-46B7-AC4C-E5ECC23FB4D1}" type="slidenum">
              <a:t>3</a:t>
            </a:fld>
          </a:p>
        </p:txBody>
      </p:sp>
    </p:spTree>
  </p:cSld>
  <p:transition>
    <p:comb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C94318-2695-4567-9EA5-FB10593DEB4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9F2F5424-B4AF-46B3-BE35-7D3755469699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18ED8-05B4-4C21-9D4D-7055AD311E8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12A80E0B-ECF7-41AF-93C5-D1702758D74A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6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7000"/>
                            </p:stCondLst>
                            <p:childTnLst>
                              <p:par>
                                <p:cTn id="3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800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9000"/>
                            </p:stCondLst>
                            <p:childTnLst>
                              <p:par>
                                <p:cTn id="3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ED7D08-4EF4-4C34-9A12-26E21CB5CB3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9E1ADEAC-5358-46F3-8196-67F325B70BDC}" type="datetime1">
              <a:rPr lang="en-US"/>
              <a:t>07/31/26</a:t>
            </a:fld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