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C1A9E-1E7F-40AA-B31F-8E9199D7C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BA907-5D02-4C41-8D55-10AD27385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BC037-CCCC-48BC-B22E-B62A66B17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913EE-50AF-4552-BCC6-B891AF39E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C11AD-A129-41E2-A370-3217A1D0C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42675-5705-492E-B886-07277C482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5080F-418A-4331-AE6E-523E00AFC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31007-6B26-4F4C-9944-94B68E014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14819-C14D-4140-B0A5-8DB797E57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721DF-8A62-4561-94F6-C186521A8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08C54-3C89-486A-ADD6-C7C96164E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8D0DB-68B2-4921-AEC4-54B8EFC8C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F73969-8B35-4B5A-8A50-09C48CABDF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0T22:04:20Z</dcterms:created>
  <dc:creator>Brion </dc:creator>
  <dc:description/>
  <dc:language>en-US</dc:language>
  <cp:lastModifiedBy/>
  <cp:revision>1</cp:revision>
  <dc:subject/>
  <dc:title/>
</cp:coreProperties>
</file>