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75634"/>
        <c:axId val="80379028"/>
      </c:barChart>
      <c:catAx>
        <c:axId val="117756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9028"/>
        <c:crosses val="autoZero"/>
        <c:auto val="1"/>
        <c:lblAlgn val="ctr"/>
        <c:lblOffset val="100"/>
        <c:noMultiLvlLbl val="0"/>
      </c:catAx>
      <c:valAx>
        <c:axId val="80379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756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B8F9-AF0B-42E6-B410-CCC8DFDA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2608-96EA-45B3-BFB8-98C9627F0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25A6-9EB0-4C3D-931B-86E63C3DD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5B7E-73F1-4139-9B3A-24F36487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8E2-4C52-41F8-A85F-0DB803D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0B2F-89B9-45B6-9FFC-4A3551F8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81C1-DBE3-4784-82E8-D4E1BE5A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4CDF-F322-4011-B6CF-878B69B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A697-D6DF-419E-9149-F7357623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AF3-A740-4FDB-BDF0-FF248401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9E3F-F9EB-4B68-907C-EFCDF6FF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FD4C-54B3-490A-888A-48F15CEAB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B7E5A-9EF4-4018-8B86-BC6E88F17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