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49292"/>
        <c:axId val="55980949"/>
      </c:barChart>
      <c:catAx>
        <c:axId val="69749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80949"/>
        <c:crosses val="autoZero"/>
        <c:auto val="1"/>
        <c:lblAlgn val="ctr"/>
        <c:lblOffset val="100"/>
        <c:noMultiLvlLbl val="0"/>
      </c:catAx>
      <c:valAx>
        <c:axId val="559809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49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00CE-2222-4478-86D1-A02C241E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2F4E-856F-49E2-98F5-59C799F2D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DFCF-BDEF-490C-85AE-3120AC6A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55A5-C8D1-47D2-9DA2-A188C815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392-FE90-4992-BEB1-C33326C1A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4A79-F07C-48AA-B9F1-33CEED9F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FF9B-A262-4475-A339-125F3C4C6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4D5-C4CE-42F4-A414-2EFF4AC3A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B834-097B-43CB-AB01-9ABE21954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DD72-9DB7-44AD-9BBF-2457A025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1C98-4A82-4ED9-90F1-D2C4A66B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E67-58B1-4A27-B96D-DB884C08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E675CF-78E8-4572-8514-650E5D648E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