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871967"/>
        <c:axId val="39596139"/>
      </c:barChart>
      <c:catAx>
        <c:axId val="6687196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596139"/>
        <c:crosses val="autoZero"/>
        <c:auto val="1"/>
        <c:lblAlgn val="ctr"/>
        <c:lblOffset val="100"/>
        <c:noMultiLvlLbl val="0"/>
      </c:catAx>
      <c:valAx>
        <c:axId val="395961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87196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0092-3AA1-404B-AA4A-D29089226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47A6-E406-45DA-81D5-7573FAAF3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384-EEAE-419F-9720-14F54667D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EF98-651E-4D25-9DA3-76766314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6ADC-8CAA-4E81-835F-E12FF5CB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E6E3-55CB-402F-AABA-A04DAB30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FDD-DDA0-4832-B52F-D7BF0EC09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5CF0-F2F4-4D15-9574-76A0D56E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996D-EBCE-4296-8C1F-8324F2D10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6BC-B0BA-43B8-A3CE-CB426155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C5A-ED04-4B5A-BC63-8B277F6C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9B2-EC04-4760-8CD3-9FBB741A1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6BAFC8-5249-48AE-8F24-1B19898620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