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96940"/>
        <c:axId val="34156137"/>
      </c:barChart>
      <c:catAx>
        <c:axId val="34896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56137"/>
        <c:crosses val="autoZero"/>
        <c:auto val="1"/>
        <c:lblAlgn val="ctr"/>
        <c:lblOffset val="100"/>
        <c:noMultiLvlLbl val="0"/>
      </c:catAx>
      <c:valAx>
        <c:axId val="34156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96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605-7FB6-4448-BCB5-FF001C4F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AB3-A097-494A-B211-877B03F5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C8A-8BE8-4CA4-92B6-78FF5B47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94E-F060-4A4F-92F5-8C8BBF75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5FE-A617-4743-8511-08D2B230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4EA-59D9-4F87-A70E-3A18DDBB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D15-B11F-4CA3-AEEC-58C898B1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148-E022-41A7-B0C4-6DF590A4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0CA-AABB-4648-B9B5-42E12B75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417-4875-4386-BBF1-E28FF2D1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4C8-6DD7-4A2B-8865-8B3B38F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607-D1B9-4EC0-B2B1-E2928D6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BEEA8-46BB-4247-808C-BAE6609757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