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06341"/>
        <c:axId val="42871245"/>
      </c:barChart>
      <c:catAx>
        <c:axId val="83706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71245"/>
        <c:crosses val="autoZero"/>
        <c:auto val="1"/>
        <c:lblAlgn val="ctr"/>
        <c:lblOffset val="100"/>
        <c:noMultiLvlLbl val="0"/>
      </c:catAx>
      <c:valAx>
        <c:axId val="42871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06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D7F-D276-428F-A4E7-5FF8681F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498-4392-4E47-8CB8-0D594CBB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BCE-0C0A-4EE7-AEE3-C01C50CE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2DF-D509-474F-96FB-8E7A07A6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C80-C3D9-45AE-8FF4-EF491E5D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EABC-2A21-4A7E-A42A-23E9CE17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479-CE01-43DD-A0DA-46F972FB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249-273B-4E4C-9B2A-72BFA5C9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D49-6C3C-4607-97ED-29780505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CBB-68FC-4EC7-9F08-9D92B709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7CB-7506-47EE-BDC7-3540059D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6A9-2CF9-4EE3-B144-5AD44928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85E90-45D0-4DD4-AC23-6F3FED8788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