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53256"/>
        <c:axId val="99020487"/>
      </c:barChart>
      <c:catAx>
        <c:axId val="49053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0487"/>
        <c:crosses val="autoZero"/>
        <c:auto val="1"/>
        <c:lblAlgn val="ctr"/>
        <c:lblOffset val="100"/>
        <c:noMultiLvlLbl val="0"/>
      </c:catAx>
      <c:valAx>
        <c:axId val="99020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53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5EA-7A6C-4813-AFA4-E97F875F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733-08D9-4446-82E3-DAD682F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F64-F2D0-4EAF-ACC6-3F56456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EA3-7FBB-46C9-9790-80836866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16-4862-4729-855E-6A767F5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9C6-B614-49AB-993B-134C989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7FD-D8AC-4065-A7F8-01889CBB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9F2-5BA2-494C-B38A-1239033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8FE-774E-4466-B924-7999DCE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53-3ED6-4134-A05B-A0BC598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08F-6078-4D87-AB00-F2D70BF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880-B7ED-4345-BE66-7DD06B3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32FC2-F51F-4B81-99F4-1D6C1734A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