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62322"/>
        <c:axId val="35549421"/>
      </c:barChart>
      <c:catAx>
        <c:axId val="75362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49421"/>
        <c:crosses val="autoZero"/>
        <c:auto val="1"/>
        <c:lblAlgn val="ctr"/>
        <c:lblOffset val="100"/>
        <c:noMultiLvlLbl val="0"/>
      </c:catAx>
      <c:valAx>
        <c:axId val="35549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62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3C5-295A-4708-9902-E43D28A7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284-5B14-4F23-9F7B-0C16C4CB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D39-D31F-4437-9B8A-24F59F75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687-243A-42DD-B505-F9E252FF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65B-410D-40D7-814F-EA0B5C8D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FF2-6673-48DB-91C8-A293B3FC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0A1-49F7-4B58-A443-67F3F919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F1B-3BB7-4F69-B713-03B599A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5B8-2A38-4AEE-819C-7C8F4D5C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DA9-ED15-4F6D-9FE3-C482B53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D9A-BF75-4904-9F0E-B90428FF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F3F-47D0-49F3-B506-DBC5E31C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AB73A-22B6-4ADD-89F4-3A9B756C05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