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40714"/>
        <c:axId val="1942382"/>
      </c:barChart>
      <c:catAx>
        <c:axId val="51340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382"/>
        <c:crosses val="autoZero"/>
        <c:auto val="1"/>
        <c:lblAlgn val="ctr"/>
        <c:lblOffset val="100"/>
        <c:noMultiLvlLbl val="0"/>
      </c:catAx>
      <c:valAx>
        <c:axId val="1942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0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1E5-1BF9-4785-89F3-700FF99D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E47-0AFD-4A41-AA54-CF88D88A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A96-AFCB-40F7-86ED-46CFDFB5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CAC-121D-4E45-A375-24463B6A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CE5-1A22-405A-A756-1AA638A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F89-BF1C-4256-947A-1B7F614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C65-DDD5-4FDD-8667-908343A9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880-3608-4E16-941E-3BF5D31D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1FB-D283-48EA-816A-F43F2EEB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8F0-C4EF-4D0C-AD8B-64AA1A3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71C-67C5-47F8-9B4E-5283F86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989-E675-49C3-AB4C-4D20817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FCB9-9657-4EB5-B53D-0A2FCE76F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