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432548"/>
        <c:axId val="54394166"/>
      </c:barChart>
      <c:catAx>
        <c:axId val="22432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94166"/>
        <c:crosses val="autoZero"/>
        <c:auto val="1"/>
        <c:lblAlgn val="ctr"/>
        <c:lblOffset val="100"/>
        <c:noMultiLvlLbl val="0"/>
      </c:catAx>
      <c:valAx>
        <c:axId val="54394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32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24E-A31F-4D2D-8629-D11E08D6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0ED-C1EC-4A7F-8C35-A7DDC9F6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13AA-211A-4A38-AEC4-E73D664A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33B-F377-49F5-8EB8-BC4C6414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3D88-EBB6-4088-9714-90380410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AABD-2DD6-459C-956D-2922F985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C2E-47B9-4314-89A0-CB9D7D67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A6CA-B4A7-4C9D-BFB2-D572C5AC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29AA-43B4-45E3-B30F-01DB0817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687C-AA06-4824-AB7E-9F19F0DD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9CEB-978F-46BF-A7FC-B8D2C1BC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5CF-9EC9-4E26-9AE5-7D74C7FF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3239C-12ED-4157-8B58-7AB718EA8D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