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16186"/>
        <c:axId val="273912"/>
      </c:barChart>
      <c:catAx>
        <c:axId val="91516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912"/>
        <c:crosses val="autoZero"/>
        <c:auto val="1"/>
        <c:lblAlgn val="ctr"/>
        <c:lblOffset val="100"/>
        <c:noMultiLvlLbl val="0"/>
      </c:catAx>
      <c:valAx>
        <c:axId val="273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16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C88-5B43-4502-B78A-0753DF35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0AC-54AD-4007-A4D4-A4EF2AA4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4C2-D93B-4565-827E-2FAEB982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3D3-DAFF-4026-AC6C-7D773532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497-49FA-456E-8561-A606A09A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E7F-B68B-4E16-A543-DC8370A5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33A-E344-48BB-8426-A1CCC86C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4E7-AC83-4B6C-BF62-605B4136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65C-0145-4EF8-8AB5-96BB3F03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3C3-1578-4F2B-AB8E-AE673560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EB8-FF55-4BCD-8D1B-4884BED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568-2F51-4953-8E0C-247648A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AE7D5-E967-4749-8600-08956D9508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