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6C14-E2C5-482F-A7C6-1E98D72CD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130B-2CCD-462B-8EA5-5BD70E4EC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5EDD-7ED0-4965-9A9B-AC2F0740A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378C-5988-49C9-ABE4-4C47ABCC3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6D78-9319-40E6-ADA7-6AA594920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8418-AFA2-48DA-A833-CCFE3CB33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3735-2A76-4BAC-9FD6-7276AB0A9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E636-8BD1-4652-88B6-0884EBAA9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89B8-6798-4A6F-8DFA-5E107A7AF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8F45-B8B9-4100-AB98-D0C035243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3896-B8BF-4EA1-BD1E-4CBE42EAE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FB28-AB24-4301-9831-1F1A24EE3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B83C1-87D2-4982-8CE6-1E2FBD2A80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380880"/>
            <a:ext cx="167652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3200400"/>
            <a:ext cx="5791320" cy="207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718280" y="3242160"/>
            <a:ext cx="754200" cy="754200"/>
            <a:chOff x="1718280" y="3242160"/>
            <a:chExt cx="754200" cy="754200"/>
          </a:xfrm>
        </p:grpSpPr>
        <p:sp>
          <p:nvSpPr>
            <p:cNvPr id="44" name=""/>
            <p:cNvSpPr/>
            <p:nvPr/>
          </p:nvSpPr>
          <p:spPr>
            <a:xfrm rot="2690400">
              <a:off x="1828800" y="33523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 rot="2689800">
              <a:off x="1828800" y="33519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143000" y="2100240"/>
            <a:ext cx="579132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acket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185840"/>
            <a:ext cx="5562720" cy="7318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16720" y="3200400"/>
            <a:ext cx="736560" cy="2057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5638680"/>
            <a:ext cx="51055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IC Dr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05120" y="4838760"/>
            <a:ext cx="228600" cy="228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1"/>
            <a:endCxn id="50" idx="2"/>
          </p:cNvCxnSpPr>
          <p:nvPr/>
        </p:nvCxnSpPr>
        <p:spPr>
          <a:xfrm flipH="1" flipV="1">
            <a:off x="2133720" y="4495680"/>
            <a:ext cx="1605240" cy="376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0"/>
            <a:endCxn id="45" idx="0"/>
          </p:cNvCxnSpPr>
          <p:nvPr/>
        </p:nvCxnSpPr>
        <p:spPr>
          <a:xfrm flipH="1" flipV="1">
            <a:off x="1718640" y="3620880"/>
            <a:ext cx="415440" cy="41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1"/>
            <a:endCxn id="55" idx="2"/>
          </p:cNvCxnSpPr>
          <p:nvPr/>
        </p:nvCxnSpPr>
        <p:spPr>
          <a:xfrm flipV="1">
            <a:off x="1718640" y="1566720"/>
            <a:ext cx="262800" cy="2054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9" idx="0"/>
            <a:endCxn id="48" idx="2"/>
          </p:cNvCxnSpPr>
          <p:nvPr/>
        </p:nvCxnSpPr>
        <p:spPr>
          <a:xfrm flipV="1">
            <a:off x="3695760" y="5257800"/>
            <a:ext cx="4089600" cy="381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9" idx="0"/>
            <a:endCxn id="51" idx="4"/>
          </p:cNvCxnSpPr>
          <p:nvPr/>
        </p:nvCxnSpPr>
        <p:spPr>
          <a:xfrm flipV="1">
            <a:off x="3695760" y="5067360"/>
            <a:ext cx="124200" cy="571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3238560" y="64771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8" idx="0"/>
            <a:endCxn id="49" idx="2"/>
          </p:cNvCxnSpPr>
          <p:nvPr/>
        </p:nvCxnSpPr>
        <p:spPr>
          <a:xfrm flipV="1">
            <a:off x="3695760" y="60958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2513880" y="4819680"/>
            <a:ext cx="12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T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13840" y="48718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1240" y="3886200"/>
            <a:ext cx="73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880" y="640080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265400"/>
            <a:ext cx="63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632448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304812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1262160"/>
            <a:ext cx="914400" cy="304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-buffer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55760" y="320040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atis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8" idx="0"/>
            <a:endCxn id="70" idx="2"/>
          </p:cNvCxnSpPr>
          <p:nvPr/>
        </p:nvCxnSpPr>
        <p:spPr>
          <a:xfrm flipV="1">
            <a:off x="3809880" y="914400"/>
            <a:ext cx="15264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1" name=""/>
          <p:cNvCxnSpPr>
            <a:stCxn id="51" idx="0"/>
            <a:endCxn id="68" idx="2"/>
          </p:cNvCxnSpPr>
          <p:nvPr/>
        </p:nvCxnSpPr>
        <p:spPr>
          <a:xfrm flipH="1" flipV="1">
            <a:off x="3809880" y="4495680"/>
            <a:ext cx="10080" cy="343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320040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5" idx="0"/>
            <a:endCxn id="41" idx="2"/>
          </p:cNvCxnSpPr>
          <p:nvPr/>
        </p:nvCxnSpPr>
        <p:spPr>
          <a:xfrm flipV="1">
            <a:off x="1981080" y="914400"/>
            <a:ext cx="360" cy="348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48769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73" idx="0"/>
            <a:endCxn id="75" idx="2"/>
          </p:cNvCxnSpPr>
          <p:nvPr/>
        </p:nvCxnSpPr>
        <p:spPr>
          <a:xfrm flipV="1">
            <a:off x="5334120" y="914400"/>
            <a:ext cx="53352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6" name=""/>
          <p:cNvCxnSpPr>
            <a:stCxn id="51" idx="6"/>
            <a:endCxn id="73" idx="2"/>
          </p:cNvCxnSpPr>
          <p:nvPr/>
        </p:nvCxnSpPr>
        <p:spPr>
          <a:xfrm flipV="1">
            <a:off x="3933720" y="4495680"/>
            <a:ext cx="140076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510552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158904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wpcap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985360" y="3699360"/>
            <a:ext cx="754200" cy="754200"/>
            <a:chOff x="5985360" y="3699360"/>
            <a:chExt cx="754200" cy="754200"/>
          </a:xfrm>
        </p:grpSpPr>
        <p:sp>
          <p:nvSpPr>
            <p:cNvPr id="79" name=""/>
            <p:cNvSpPr/>
            <p:nvPr/>
          </p:nvSpPr>
          <p:spPr>
            <a:xfrm rot="2690400">
              <a:off x="6095880" y="38095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 rot="2689800">
              <a:off x="6095880" y="38091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" name=""/>
          <p:cNvCxnSpPr>
            <a:stCxn id="73" idx="3"/>
            <a:endCxn id="80" idx="0"/>
          </p:cNvCxnSpPr>
          <p:nvPr/>
        </p:nvCxnSpPr>
        <p:spPr>
          <a:xfrm flipV="1">
            <a:off x="5791320" y="4078080"/>
            <a:ext cx="194760" cy="189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141960" y="335268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75000" y="464832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To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0" idx="1"/>
            <a:endCxn id="83" idx="0"/>
          </p:cNvCxnSpPr>
          <p:nvPr/>
        </p:nvCxnSpPr>
        <p:spPr>
          <a:xfrm>
            <a:off x="5985720" y="4078080"/>
            <a:ext cx="455760" cy="570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83808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truct timeval 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160020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p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362320"/>
            <a:ext cx="213336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838080"/>
            <a:ext cx="380880" cy="2286000"/>
          </a:xfrm>
          <a:custGeom>
            <a:avLst/>
            <a:gdLst>
              <a:gd name="textAreaLeft" fmla="*/ 0 w 380880"/>
              <a:gd name="textAreaRight" fmla="*/ 137520 w 3808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3733920"/>
            <a:ext cx="2133360" cy="761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4495680"/>
            <a:ext cx="2133360" cy="7621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3733920"/>
            <a:ext cx="304560" cy="152388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3720" y="1560600"/>
            <a:ext cx="26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u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ap_pkthd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27360" y="4083120"/>
            <a:ext cx="18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_char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3:44:03Z</dcterms:created>
  <dc:creator>Loris Degioanni</dc:creator>
  <dc:description/>
  <dc:language>en-US</dc:language>
  <cp:lastModifiedBy>Loris Degioanni</cp:lastModifiedBy>
  <dcterms:modified xsi:type="dcterms:W3CDTF">2002-06-28T12:31:22Z</dcterms:modified>
  <cp:revision>11</cp:revision>
  <dc:subject/>
  <dc:title>Presentazione di PowerPoint</dc:title>
</cp:coreProperties>
</file>