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7D439-6669-4CCE-BB14-9F1F57AD71E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C2E55-8B03-456C-B393-7307BA9355D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66834-071D-47DD-B4A6-B97D0CA18B2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14E90-98DB-4425-A18E-1FDDF60B5CB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B3572-A38D-43F8-9F59-4F264CDEE85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5ADF2-1947-406A-BECF-7F6F382D14F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533F3-A95F-4598-9102-4AFD3D71498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3CF67-C1E1-4217-BB36-B5A3B837B23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361A0-AB0C-460A-873D-8D870761FBE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54B3B-AC54-462F-93F1-D318EC1A5DC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AD0EA-3DFD-48A0-8B63-CD70C87A379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38029-F8F0-4A35-AA39-73460BAEBB5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1FA87-A851-4F80-AA59-49CCB03D725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DE3AC-A294-42D7-BDE0-E90AFADD366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9CBA-105C-4E87-88B6-F6C1CA9C7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BC82-4FB6-409D-9B29-1B27C1356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833F-E4A3-4431-BF0C-9ABD68E4C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6824-5F5C-43FA-B778-847A97FB5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1BDB-436D-4594-BD43-6EB37DAC2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5DBB-EE2F-4B44-9F94-D5A6B03A2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544E-E199-40F0-81EC-B58790E4A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CE61-DD3F-49AD-A853-D8F5679E1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C130-10C6-49C8-8BC5-787411B35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E3B0-7C14-4690-8A75-37878200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00D4-7961-462C-A120-15E0FEAB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3AA0-FA64-4ECF-BC41-70CED119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B24E7-C988-4F51-87D5-FE9D34098856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6:07Z</dcterms:modified>
  <cp:revision>19</cp:revision>
  <dc:subject/>
  <dc:title>Tcl/Tk Mature but Evolving Dynamic Language</dc:title>
</cp:coreProperties>
</file>