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871A2-5EEA-4944-8ED3-C83187324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65F3E-F8DE-4AE3-877A-65E442274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4ECBB-49B5-46B0-BB54-E4852B59A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86542-ED0B-4068-AEA2-431A57B43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6793E-AD4F-4DAC-90AB-1957E189A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59C0B-A7A5-4379-84E2-96D990FE3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77A47-8D51-430C-ABB6-933179958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E3F08-1777-449C-A182-FEDD4424C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A08D6-B902-4BBC-BA15-ACDA258A4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54D28-3485-4092-B50B-64B9898A3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B072F-AF7C-449D-9984-DEB84F113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7CD07-DDFD-419D-96C3-32D4AA6AE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5A32D-7BCE-46B1-BA45-24981C0EF8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rapping Fortran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jen Mark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ne 20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PACK: final interf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ding the unnecessary argume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oc dbdsdc { uplo compq d e 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[list $dnew $u $vt $q $iq $info]  ;# Leaving out "e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in types of dat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ars (mostly floating-point and integ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-dimensional arrays (vector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-dimensional arrays (matric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ly: mapped onto Tcl lists and nes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s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ting the wrapper co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inguish the various roles of 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gume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put data (scalar/arra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put arguments (scalar/arra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zes of array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sp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 na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ndling the ro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ilerplate code (integer array v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laration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ong *v; int size__v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itialisation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( WrapCopyIntListToArray( interp, objv[1], &amp;v, &amp;size__v ) != TCL_OK 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Tcl_SetResult( interp, “Argument 1 must be a list of integers”, NULL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TCL_ERR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ean-up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kfree((char *)v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ition of argu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tran routine (arrays x and w are returned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subroutine lagzo( n, x, w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integer 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double precision x(n), w(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l wrapp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Wrapfort::fproc ::Specfunc::laguerreZeros lagzo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eger       n  inp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uble-array  x  {allocate n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uble-array  w  {allocate n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ode {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lagzo( &amp;n, x, w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…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additional code: return arrays x and w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chnical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le of arguments can not be deduced automatic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knowledge of C and Fortran and interfacing the two is requi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turning more than one result (as a list) requires extra code – not handled automatically y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PACK - wrapp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undreds of rout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 most interest: the “driver” rout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guments are well described – automation pos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handcrafting still required (to make the interface more Tcl-like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NPACK: user-defined fun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ding zeros for a vector-valued func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ubroutine hybrd1(fcn,n,x,fvec,tol,info,wa,lw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eger n,info,lw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uble precision t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uble precision x(n),fvec(n),wa(lw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xternal fc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unction is implemented via a user-defined subroutin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ubroutine fcn(n,x,fvec,ifla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eger n,ifla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uble precision x(n),fvec(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alculate the functions at x 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this vector in fve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NPACK – par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rresponding Tcl procedu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oc fcn {x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{ ... $x too far away ... 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–code error “Unacceptable solution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$fvec ;# Vector-valued fun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NPACK - wrapp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ition via Wrapfort: subroutine fcn(n,x,fvec,ifla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rapfort::fexternal fcn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tran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eger      n      in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uble-array x      {input n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uble-array fvec   {output n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eger      iflag  out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oproc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x      in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vec   resul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onerror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*iflag = -1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rapping Fortran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 of numerical libra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igning the interf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ng the wrapper cod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rther develop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re about Ftcl and Wrapf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tcl is a project on SourceForge to combine Tcl and Fortr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apfort is part of that project, focusing on generating interfa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can avoid all C programm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ftcl.sf.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rther develop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formance: Tcl lists may not be the best representation in all c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apping C libraries (akin to Critc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ing whole programs – develop a strate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ate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apping such libraries makes this functionality available to Tcl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also makes Tcl’s flexibility available to engineers and scienti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s of numerical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PACK: Linear algebra probl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cfunc: Special mathematical fun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PACK: least-squares minimis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aluating multidimensional integrals (Strou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FTW: Fourier transfo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igning the interfa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typical exa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 fit to Tc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UBROUTINE AIRYA(X,AI,BI,AD,B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======================================================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Purpose: Compute Airy functions and their derivativ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Input:   x  --- Argument of Airy fun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Output:  AI --- Ai(x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         BI --- Bi(x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         AD --- Ai'(x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         BD --- Bi'(x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Routine calle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         AJYIK for computing Jv(x), Yv(x), Iv(x) 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         Kv(x) with v=1/3 and 2/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======================================================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MPLICIT DOUBLE PRECISION (A-H,O-Z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face: fit to Tcl?  - par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oc airy {x ai_ bi_ ad_ bd_}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var 1 $ai_ a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var 1 $bi_ b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var 1 $ad_ 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var 1 $bd_ b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ss variable names – rather unus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face: fit to Tcl? – par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on 2: Return a list of val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oc airy {x}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[list $ai $bi $ad $bd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on 3: Separate rout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oc airyA {x} {      proc airyB {x}   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$ai            return $b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PACK routines – par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UBROUTINE DBDSDC( UPLO, COMPQ, N, D, E, U, LDU, VT, LDVT, Q, IQ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$                   WORK, IWORK, INFO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-- LAPACK routine (version 3.2) 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-- LAPACK is a software package provided by Univ. of Tennessee,    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-- Univ. of California Berkeley, Univ. of Colorado Denver and NAG Ltd..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   November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   .. Scalar Arguments 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HARACTER          COMPQ, UP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EGER            INFO, LDU, LDVT, 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   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   .. Array Arguments 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EGER            IQ( * ), IWORK( *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UBLE PRECISION   D( * ), E( * ), Q( * ), U( LDU, * 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$                   VT( LDVT, * ), WORK( *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   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PACK routines – par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ng argument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guments that are array dimen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guments that provide worksp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 output argu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ed in Tcl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if we use lists to store the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1T05:07:48Z</dcterms:created>
  <dc:creator>Computer Services</dc:creator>
  <dc:description/>
  <dc:language>en-US</dc:language>
  <cp:lastModifiedBy>Computer Services</cp:lastModifiedBy>
  <dcterms:modified xsi:type="dcterms:W3CDTF">2010-06-04T04:54:37Z</dcterms:modified>
  <cp:revision>15</cp:revision>
  <dc:subject/>
  <dc:title>Wrapping Fortran libraries</dc:title>
</cp:coreProperties>
</file>