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35ABE-A150-4387-9668-F8FA3042D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813DE-8DD9-4743-B17B-623CD952C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9CD53-636B-401E-94A6-548D8AA20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8CF7D-ED77-4D5E-A2F0-2B3E9F994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01ACB-4B24-4A09-9A00-252CBD112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812BB-BBAE-4725-84B4-2871660C3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27866-86BE-463B-96B2-A91F37943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10F60-CEFA-433C-8129-675FF3A32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BF543-7658-496D-BB81-7A091B868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7A7C9-D027-496F-BD33-C46F35A3F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EE226-AEE4-4A3B-9CF8-2D4C64553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A55E6-0028-472A-9F43-3289BA9F8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DBD3AA-6CCE-446B-8D29-B80BEA3831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0T22:04:20Z</dcterms:created>
  <dc:creator>Brion </dc:creator>
  <dc:description/>
  <dc:language>en-US</dc:language>
  <cp:lastModifiedBy/>
  <cp:revision>1</cp:revision>
  <dc:subject/>
  <dc:title/>
</cp:coreProperties>
</file>