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37587"/>
        <c:axId val="83569143"/>
      </c:barChart>
      <c:catAx>
        <c:axId val="55837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69143"/>
        <c:crosses val="autoZero"/>
        <c:auto val="1"/>
        <c:lblAlgn val="ctr"/>
        <c:lblOffset val="100"/>
        <c:noMultiLvlLbl val="0"/>
      </c:catAx>
      <c:valAx>
        <c:axId val="83569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7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49A-03E6-47CB-8546-F47143FF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DBC-C930-46D8-BE71-04D743C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713-DDF5-4412-A2C8-F84E176C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B7D-9788-4962-9FC2-B09380DB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D7E-0BD9-4D23-A695-8281E0F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CC9-35E4-4498-967E-660DD188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56D-96E4-4806-9522-84AEDD6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E6B-F67E-4F41-A18C-B4B6C84A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D39-BA65-43B9-B33B-02A4BF8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ADD-F060-43D2-AB62-CC061966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842-D0B1-48E6-8FCD-01FF4F4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8B9-96F1-45B3-9CDD-EF2B68B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FC051-4C40-4C92-AE0A-80358DD04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