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7444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5950080" y="-360"/>
            <a:ext cx="907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040" y="434304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867160"/>
            <a:ext cx="7016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6495840" y="8867160"/>
            <a:ext cx="361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7FD39-1574-4A68-8B1F-B4F21FE856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3429000" y="240048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52280" y="4202280"/>
            <a:ext cx="6553440" cy="41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ault - For categories where no configuration has been def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eneral - For messages still not classif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atabase- Internal database mess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curity - Approval and denial of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nfig - Configuration file parsing and process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solver - DNS resolution, such as the recursive look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in - Zone transfers the server is recei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out - Zone transfers the server is sen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otify - The NOTIFY protoc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ient - Processing of client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nmatched - Messages with undetermined class or vie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twork - Network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pdate - Dynamic upd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queries - Query logg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ispatch - Dispatching of incoming packets to modu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nssec - DNSSEC and TSIG protocol process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ame-servers - misconfigurations of remote serve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0437F-320B-4954-8F76-FBC7B39380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E5E33-FD54-4942-B32F-4587FFE7E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9CBE3-5F34-4ADB-B7D3-D459EED5B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D9B8A-51B2-41BD-9810-2BDEC46EC1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1EB3E-C1C0-4042-870B-0BE6754D9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507B5-A81A-4EA4-8296-874D194E8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41C71-502E-41EE-868C-954DDD5C5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8D0B2-785D-44C4-A490-01150DC7B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509C6-87EF-42E5-B002-8A760E92E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966B1-0727-49C3-8754-481246368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05C96-D320-40ED-9332-EC32E79E1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7362C-38F5-473B-A4E1-F705E810D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360" y="6553080"/>
            <a:ext cx="10587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A60B77A9-78B2-4803-8D62-5B95C7B432AF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Troubleshootin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8760" y="627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un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the name server is thought to be running, make sure it i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ig @127.0.0.1 version.bind chaos tx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makes the name server do the simplest lookup it can - its version str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also confirms which version you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mmon upgrade error: running the old version, forgetting to 'make install'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3FE6C-5134-4390-827A-D666137C58D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Data Correc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that the server is the right one (executabl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dig @127.0.0.1 &lt;zone&gt; so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 the serial number to make sure the zone has load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so test changed data in case you forgot to update the serial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we get to secondary servers, this check is made to see if the zone transferr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4748C-F5F6-4049-8109-F553F67E3566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eachable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dig tests fail, its time to test the environment (machine, networ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ping &lt;server machine ip addres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tests basic network flow, common erro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etwork interface not U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uting to machine not corr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ing 'locally' is useful, believe it or no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nfirms that the IP address is correct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105FD-C697-4735-BB50-AFD9C143DCC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iste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server does not respond, but machine responds to 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ok at system log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server 53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 will run even if it can't open the network por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s will show th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opens a TCP connection, tests whether port was opened at al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63CC4-E242-48C5-BEA9-30E4163201F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ogging the Right Stuff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voking and examining the log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 files only appear when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example, dnssec logs will start only if 'trusted-keys' are configured and are 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ch category is triggered different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iggers may not be obviou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2C20B-6E75-4027-ADB5-29CC14F3D1E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he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itsel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/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st diagnotic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acket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45665-CABD-46DC-B679-7D03FAD730D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t in to name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g to retain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g -c &lt;conf file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in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d &lt;level&gt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ts the debug output volu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level&gt;'s aren't strictly defi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d 3 is popular, -d 99 gives a lot of detai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84B9D-F8D0-4A35-92EF-7C70D1A0BF2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internet grop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ready used in examp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est tool for tes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query and response synta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man d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ig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luded in named distribu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3E384-68C1-4CDB-88A3-3E9202A0A25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on-BIND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ols to make sure environment is righ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look at server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test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see what messages are on the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C3F99-00E5-4BF4-924D-AD2E9D42942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fconf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Face CONFIGu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config -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the status of interfa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perating system uti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arning, during boot up, ifconfig may configure interfaces after named is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can't open delayed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man ifconf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20EB7-9432-4538-A582-CE9C40C87A6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y Troubleshoo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Can Go Wrong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zo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7BEE4-FE25-4492-ADF2-534FCF8AA54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s routing, machine health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 useful if run from another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uld be reason "no servers are reached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be useful on local machine - to see if the interface is proper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57B29-9E5F-4BC8-876D-063A1A854AD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racerout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ping fails, traceroute can help pinpoint where trouble l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problem may be rou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 so - it's not named that needs fixing!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is it important to know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08B62-6E35-450D-B8E0-59F451E7751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cpdump and ethere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confident in the environment, problems with DNS set ups may ex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what is happening in the protocol, use traffic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se tools can help debug "forwarding"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thereal can be retrived fro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http://www.ethereal.com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1A49E-07F4-47C8-95A3-0AE89CF806D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Logging Facilit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's built-i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 and tracerou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cpdump and etherea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 and 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E2CC1-071D-4EFC-A37D-607F8F19CDC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Best Way To Handle Mistak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sume You Will Make The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pare The Name Server via Logg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4197D-4C3A-42D8-8427-DB4831856B7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Logg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ich messages to se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tegory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ere to send messag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annel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2B79C-2B71-46B0-812F-ECFE2BDBCDD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ategori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has many catego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rt descriptions of each can be found in the Administrator's Reference Manual (ARM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tion 6.2.10.2, page 49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ategory dnssec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nssec_log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1E951-FA0A-48E8-A370-A794EF59128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hanne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use syslo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direct output to other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hannel dnssec_log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file "seclog" versions 3 size 10m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time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categor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severit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severity debug 3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BF556-F648-4B63-A1CA-8227D8456E0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o You've Set Up A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testing should be don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Basic liven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(right) server running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machine set up correctly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data being serv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the zone load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ve zone transfers happen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4735C-257F-4914-8152-A8046A36095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ecking the Configur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named start, use the -g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process in the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ints some diagnostic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does not execute logg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satisfied with named's start, kill the process and start without the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-check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ecks syntax on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4EF79-A495-47D3-912F-0AA5E96DA35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2:28:22Z</dcterms:created>
  <dc:creator>Edward Lewis</dc:creator>
  <dc:description/>
  <dc:language>en-US</dc:language>
  <cp:lastModifiedBy>Marmaduke Wildebeeste</cp:lastModifiedBy>
  <cp:lastPrinted>2003-02-20T01:50:27Z</cp:lastPrinted>
  <dcterms:modified xsi:type="dcterms:W3CDTF">2003-06-01T20:48:57Z</dcterms:modified>
  <cp:revision>30</cp:revision>
  <dc:subject/>
  <dc:title>PowerPoint Presentation  -  Table of Contents</dc:title>
</cp:coreProperties>
</file>