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694863" cy="7466013"/>
  <p:notesSz cx="7008813" cy="9294813"/>
</p:presentation>
</file>

<file path=ppt/commentAuthors.xml><?xml version="1.0" encoding="utf-8"?>
<p:cmAuthorLst xmlns:p="http://schemas.openxmlformats.org/presentationml/2006/main">
  <p:cmAuthor id="0" name="Sandia National Laboratories" initials="SN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5-01-04T21:19:10.827000000" idx="1">
    <p:pos x="5507" y="1203"/>
    <p:text>Most optimization solver experts are not user-interface experts ... so why should we expect their software to be generally easy to use by naive users?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54200" indent="-18252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03480" cy="12193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33320" y="1244520"/>
            <a:ext cx="822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865240" y="6807240"/>
            <a:ext cx="4343400" cy="496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732960" y="6811560"/>
            <a:ext cx="2019240" cy="498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lide </a:t>
            </a:r>
            <a:fld id="{03D898D1-BFAF-40DE-8D48-B9D52641E85C}" type="slidenum"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742160" y="206280"/>
            <a:ext cx="1219320" cy="10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24240" cy="141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0000" y="6842160"/>
            <a:ext cx="5731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dia is a multiprogram laboratory operated by Sandia Corporation, a Lockheed Martin Company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the United States Department of Energy’s National Nuclear Security Administra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under contract DE-AC04-94AL8500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43000" y="6907320"/>
            <a:ext cx="968400" cy="36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2960" y="1098360"/>
            <a:ext cx="8226360" cy="733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84560" y="1747080"/>
            <a:ext cx="8724960" cy="43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90680" indent="0" algn="ctr">
              <a:spcBef>
                <a:spcPts val="499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810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47168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96056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ehart@sandia.go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3320" y="1098720"/>
            <a:ext cx="8228160" cy="1110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 Introduction to the COLIN Optimization Interfac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68440" y="3954600"/>
            <a:ext cx="6756480" cy="2490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lliam Har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crete Algorithms and Math Dep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andia National Laborator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Trebuchet MS"/>
                <a:hlinkClick r:id="rId1"/>
              </a:rPr>
              <a:t>wehart@sandia.gov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341360" y="5181480"/>
            <a:ext cx="7219800" cy="1627200"/>
            <a:chOff x="1341360" y="5181480"/>
            <a:chExt cx="7219800" cy="162720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1341360" y="5190840"/>
              <a:ext cx="1928520" cy="16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6622920" y="5181480"/>
              <a:ext cx="1938240" cy="162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Mapping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pping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id map_domain(vector&lt;double&gt;&amp; x, const array&lt;double&gt;&amp; 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{ for (int i=0; i&lt;y.size(); i++) x[i] = y[i];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Problem with domain vector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Problem&lt;vector&lt;double&gt; &gt; prob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Solver with domain array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C&lt;array&lt;double&gt; &gt; op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Set a problem with a domain that is mapped by t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p_domain() template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.set_problem(prob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ybrid Solver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servation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ed a standard solver interfa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y require domain mapping both to and from the application domain ty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ybrid Solver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7200" y="1447560"/>
            <a:ext cx="823896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Local solver with domain array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tternSearch&lt;array&lt;double&gt; &gt; local_op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in solver with domain vector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C&lt;vector&lt;double&gt; &gt; op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Setup the local optimiz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.set_solver(local_opt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pping func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id map_domain(array&lt;double&gt;&amp; x, const vector&lt;double&gt;&amp; 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{ for (int i=0; i&lt;y.size(); i++) x[i] = y[i];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id map_domain(vector&lt;double&gt;&amp; x, const array&lt;double&gt;&amp; 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{ for (int i=0; i&lt;y.size(); i++) x[i] = y[i];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Trait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user may wish to optimize using an opaque data ty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solver may not know whether this data type supports operations like differenti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d domain trai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Traits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Definition of a generic class defini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ass DomainClass { vector&lt;double&gt; x; vector&lt;int&gt; y; 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Define domain traits for derivative inform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emplate &lt;&g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ool OptDomainTraits&lt;DomainClass&gt;::derivative_flag=true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Define proble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ouble func(DomainClass&amp; fn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Problem&lt;DomainClass&gt; prob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Setup(prob,func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Compute gradient information with this domai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omainClass poin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ctor&lt;double&gt; grad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b.EvalG(point,grad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pplication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6840" y="1447920"/>
            <a:ext cx="82342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: nonlinear least squares using genetic programm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26920" y="2335320"/>
          <a:ext cx="723132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35320"/>
                    <a:ext cx="723132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303880" y="3657600"/>
          <a:ext cx="2789280" cy="24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3880" y="3657600"/>
                    <a:ext cx="278928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pplication Exampl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 (cont’d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6840" y="1447920"/>
            <a:ext cx="831060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8000"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servation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decompose search into two pa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1920" indent="-1803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nctional for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1920" indent="-1803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lue o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functional form may be differentiable with respect to the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ign of a hybrid evolutionary algorith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genetic program to search for s-express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cal search to optimiz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Impact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y different local search methods can be appli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main mapping simplifies the application of local sear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29040" y="2697120"/>
          <a:ext cx="191880" cy="2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9040" y="2697120"/>
                    <a:ext cx="191880" cy="2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405320" y="4387680"/>
          <a:ext cx="19044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5320" y="4387680"/>
                    <a:ext cx="1904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y Librar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: an optimization library of COLIN optimiz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es most SGOPT optimizers direct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rappers for a growing number of third-party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84520" y="3205800"/>
            <a:ext cx="5846760" cy="2988000"/>
            <a:chOff x="1784520" y="3205800"/>
            <a:chExt cx="5846760" cy="2988000"/>
          </a:xfrm>
        </p:grpSpPr>
        <p:grpSp>
          <p:nvGrpSpPr>
            <p:cNvPr id="141" name=""/>
            <p:cNvGrpSpPr/>
            <p:nvPr/>
          </p:nvGrpSpPr>
          <p:grpSpPr>
            <a:xfrm>
              <a:off x="6124320" y="3263040"/>
              <a:ext cx="1506960" cy="2841120"/>
              <a:chOff x="6124320" y="3263040"/>
              <a:chExt cx="1506960" cy="2841120"/>
            </a:xfrm>
          </p:grpSpPr>
          <p:sp>
            <p:nvSpPr>
              <p:cNvPr id="142" name=""/>
              <p:cNvSpPr/>
              <p:nvPr/>
            </p:nvSpPr>
            <p:spPr>
              <a:xfrm>
                <a:off x="6181560" y="3263040"/>
                <a:ext cx="144972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DAKOT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59240" y="4031280"/>
                <a:ext cx="105120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AMPL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24320" y="4793040"/>
                <a:ext cx="96192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Excel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37280" y="5496480"/>
                <a:ext cx="104148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NE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784520" y="3205800"/>
              <a:ext cx="1847520" cy="2988000"/>
              <a:chOff x="1784520" y="3205800"/>
              <a:chExt cx="1847520" cy="2988000"/>
            </a:xfrm>
          </p:grpSpPr>
          <p:sp>
            <p:nvSpPr>
              <p:cNvPr id="147" name=""/>
              <p:cNvSpPr/>
              <p:nvPr/>
            </p:nvSpPr>
            <p:spPr>
              <a:xfrm>
                <a:off x="1784520" y="3205800"/>
                <a:ext cx="184140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GOP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49320" y="3845520"/>
                <a:ext cx="178272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OPT++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15160" y="4484880"/>
                <a:ext cx="130464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DO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61080" y="5124600"/>
                <a:ext cx="14572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APP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784520" y="5764320"/>
                <a:ext cx="18244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Cobyl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304520" y="4484880"/>
              <a:ext cx="1370880" cy="429480"/>
            </a:xfrm>
            <a:prstGeom prst="flowChartPredefined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COL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47" idx="3"/>
              <a:endCxn id="152" idx="1"/>
            </p:cNvCxnSpPr>
            <p:nvPr/>
          </p:nvCxnSpPr>
          <p:spPr>
            <a:xfrm>
              <a:off x="3558960" y="3423960"/>
              <a:ext cx="762480" cy="1276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4" name=""/>
            <p:cNvCxnSpPr>
              <a:stCxn id="148" idx="3"/>
              <a:endCxn id="152" idx="1"/>
            </p:cNvCxnSpPr>
            <p:nvPr/>
          </p:nvCxnSpPr>
          <p:spPr>
            <a:xfrm>
              <a:off x="3558960" y="4063320"/>
              <a:ext cx="762480" cy="63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5" name=""/>
            <p:cNvCxnSpPr>
              <a:stCxn id="149" idx="3"/>
              <a:endCxn id="152" idx="1"/>
            </p:cNvCxnSpPr>
            <p:nvPr/>
          </p:nvCxnSpPr>
          <p:spPr>
            <a:xfrm>
              <a:off x="3558960" y="4700160"/>
              <a:ext cx="762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6" name=""/>
            <p:cNvCxnSpPr>
              <a:stCxn id="150" idx="3"/>
              <a:endCxn id="152" idx="1"/>
            </p:cNvCxnSpPr>
            <p:nvPr/>
          </p:nvCxnSpPr>
          <p:spPr>
            <a:xfrm flipV="1">
              <a:off x="3558960" y="4699800"/>
              <a:ext cx="762480" cy="640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7" name=""/>
            <p:cNvCxnSpPr>
              <a:stCxn id="151" idx="3"/>
              <a:endCxn id="152" idx="1"/>
            </p:cNvCxnSpPr>
            <p:nvPr/>
          </p:nvCxnSpPr>
          <p:spPr>
            <a:xfrm flipV="1">
              <a:off x="3558960" y="4700160"/>
              <a:ext cx="762480" cy="1280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8" name=""/>
            <p:cNvCxnSpPr>
              <a:stCxn id="152" idx="3"/>
              <a:endCxn id="142" idx="1"/>
            </p:cNvCxnSpPr>
            <p:nvPr/>
          </p:nvCxnSpPr>
          <p:spPr>
            <a:xfrm flipV="1">
              <a:off x="5660640" y="3568320"/>
              <a:ext cx="489600" cy="1132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52" idx="3"/>
              <a:endCxn id="143" idx="1"/>
            </p:cNvCxnSpPr>
            <p:nvPr/>
          </p:nvCxnSpPr>
          <p:spPr>
            <a:xfrm flipV="1">
              <a:off x="5660640" y="4336560"/>
              <a:ext cx="491040" cy="364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0" name=""/>
            <p:cNvCxnSpPr>
              <a:stCxn id="152" idx="3"/>
              <a:endCxn id="144" idx="1"/>
            </p:cNvCxnSpPr>
            <p:nvPr/>
          </p:nvCxnSpPr>
          <p:spPr>
            <a:xfrm>
              <a:off x="5660280" y="4700160"/>
              <a:ext cx="487800" cy="399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1" name=""/>
            <p:cNvCxnSpPr>
              <a:stCxn id="152" idx="3"/>
              <a:endCxn id="145" idx="1"/>
            </p:cNvCxnSpPr>
            <p:nvPr/>
          </p:nvCxnSpPr>
          <p:spPr>
            <a:xfrm>
              <a:off x="5660640" y="4700520"/>
              <a:ext cx="489600" cy="1102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y Impac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provides optimization middle-ware that eliminates the need for separate interfaces for each new optimization toolk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749600" y="2977200"/>
            <a:ext cx="5847120" cy="2988000"/>
            <a:chOff x="1749600" y="2977200"/>
            <a:chExt cx="5847120" cy="2988000"/>
          </a:xfrm>
        </p:grpSpPr>
        <p:sp>
          <p:nvSpPr>
            <p:cNvPr id="165" name=""/>
            <p:cNvSpPr/>
            <p:nvPr/>
          </p:nvSpPr>
          <p:spPr>
            <a:xfrm>
              <a:off x="6147000" y="3110760"/>
              <a:ext cx="144972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DAKO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24680" y="3879360"/>
              <a:ext cx="105120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AMP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9400" y="4641120"/>
              <a:ext cx="96192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Exc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02720" y="5344560"/>
              <a:ext cx="104148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NE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1749600" y="2977200"/>
              <a:ext cx="1847520" cy="2988000"/>
              <a:chOff x="1749600" y="2977200"/>
              <a:chExt cx="1847520" cy="2988000"/>
            </a:xfrm>
          </p:grpSpPr>
          <p:sp>
            <p:nvSpPr>
              <p:cNvPr id="170" name=""/>
              <p:cNvSpPr/>
              <p:nvPr/>
            </p:nvSpPr>
            <p:spPr>
              <a:xfrm>
                <a:off x="1749600" y="2977200"/>
                <a:ext cx="184140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GOP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14400" y="3616920"/>
                <a:ext cx="178272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OPT++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0240" y="4256280"/>
                <a:ext cx="130464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DO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126160" y="4896000"/>
                <a:ext cx="14572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APP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49600" y="5535720"/>
                <a:ext cx="18244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Cobyl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5" name=""/>
            <p:cNvCxnSpPr>
              <a:stCxn id="170" idx="3"/>
              <a:endCxn id="165" idx="1"/>
            </p:cNvCxnSpPr>
            <p:nvPr/>
          </p:nvCxnSpPr>
          <p:spPr>
            <a:xfrm>
              <a:off x="3524040" y="3195000"/>
              <a:ext cx="2591280" cy="221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6" name=""/>
            <p:cNvCxnSpPr>
              <a:stCxn id="171" idx="3"/>
              <a:endCxn id="165" idx="1"/>
            </p:cNvCxnSpPr>
            <p:nvPr/>
          </p:nvCxnSpPr>
          <p:spPr>
            <a:xfrm flipV="1">
              <a:off x="3524040" y="3415680"/>
              <a:ext cx="2591280" cy="41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7" name=""/>
            <p:cNvCxnSpPr>
              <a:stCxn id="172" idx="3"/>
              <a:endCxn id="165" idx="1"/>
            </p:cNvCxnSpPr>
            <p:nvPr/>
          </p:nvCxnSpPr>
          <p:spPr>
            <a:xfrm flipV="1">
              <a:off x="3524040" y="3415320"/>
              <a:ext cx="2591280" cy="1056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8" name=""/>
            <p:cNvCxnSpPr>
              <a:stCxn id="173" idx="3"/>
              <a:endCxn id="165" idx="1"/>
            </p:cNvCxnSpPr>
            <p:nvPr/>
          </p:nvCxnSpPr>
          <p:spPr>
            <a:xfrm flipV="1">
              <a:off x="3524040" y="3415680"/>
              <a:ext cx="2591280" cy="1696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9" name=""/>
            <p:cNvCxnSpPr>
              <a:stCxn id="174" idx="3"/>
              <a:endCxn id="165" idx="1"/>
            </p:cNvCxnSpPr>
            <p:nvPr/>
          </p:nvCxnSpPr>
          <p:spPr>
            <a:xfrm flipV="1">
              <a:off x="3524040" y="3415680"/>
              <a:ext cx="2591280" cy="23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0" name=""/>
            <p:cNvCxnSpPr>
              <a:stCxn id="170" idx="3"/>
              <a:endCxn id="166" idx="1"/>
            </p:cNvCxnSpPr>
            <p:nvPr/>
          </p:nvCxnSpPr>
          <p:spPr>
            <a:xfrm>
              <a:off x="3524040" y="3195360"/>
              <a:ext cx="2592720" cy="990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1" name=""/>
            <p:cNvCxnSpPr>
              <a:stCxn id="170" idx="3"/>
              <a:endCxn id="167" idx="1"/>
            </p:cNvCxnSpPr>
            <p:nvPr/>
          </p:nvCxnSpPr>
          <p:spPr>
            <a:xfrm>
              <a:off x="3523680" y="3195360"/>
              <a:ext cx="2589480" cy="1751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2" name=""/>
            <p:cNvCxnSpPr>
              <a:stCxn id="170" idx="3"/>
              <a:endCxn id="168" idx="1"/>
            </p:cNvCxnSpPr>
            <p:nvPr/>
          </p:nvCxnSpPr>
          <p:spPr>
            <a:xfrm>
              <a:off x="3524040" y="3195360"/>
              <a:ext cx="2591280" cy="2455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3" name=""/>
            <p:cNvCxnSpPr>
              <a:stCxn id="171" idx="3"/>
              <a:endCxn id="166" idx="1"/>
            </p:cNvCxnSpPr>
            <p:nvPr/>
          </p:nvCxnSpPr>
          <p:spPr>
            <a:xfrm>
              <a:off x="3524040" y="3834720"/>
              <a:ext cx="2592720" cy="350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4" name=""/>
            <p:cNvCxnSpPr>
              <a:stCxn id="171" idx="3"/>
              <a:endCxn id="167" idx="1"/>
            </p:cNvCxnSpPr>
            <p:nvPr/>
          </p:nvCxnSpPr>
          <p:spPr>
            <a:xfrm>
              <a:off x="3523680" y="3834720"/>
              <a:ext cx="2589480" cy="1112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5" name=""/>
            <p:cNvCxnSpPr>
              <a:stCxn id="171" idx="3"/>
              <a:endCxn id="168" idx="1"/>
            </p:cNvCxnSpPr>
            <p:nvPr/>
          </p:nvCxnSpPr>
          <p:spPr>
            <a:xfrm>
              <a:off x="3524040" y="3834720"/>
              <a:ext cx="2591280" cy="1815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6" name=""/>
            <p:cNvCxnSpPr>
              <a:stCxn id="172" idx="3"/>
              <a:endCxn id="166" idx="1"/>
            </p:cNvCxnSpPr>
            <p:nvPr/>
          </p:nvCxnSpPr>
          <p:spPr>
            <a:xfrm flipV="1">
              <a:off x="3524040" y="4184280"/>
              <a:ext cx="2592720" cy="288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7" name=""/>
            <p:cNvCxnSpPr>
              <a:stCxn id="172" idx="3"/>
              <a:endCxn id="167" idx="1"/>
            </p:cNvCxnSpPr>
            <p:nvPr/>
          </p:nvCxnSpPr>
          <p:spPr>
            <a:xfrm>
              <a:off x="3523680" y="4471920"/>
              <a:ext cx="2589480" cy="475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8" name=""/>
            <p:cNvCxnSpPr>
              <a:stCxn id="172" idx="3"/>
              <a:endCxn id="168" idx="1"/>
            </p:cNvCxnSpPr>
            <p:nvPr/>
          </p:nvCxnSpPr>
          <p:spPr>
            <a:xfrm>
              <a:off x="3524040" y="4471920"/>
              <a:ext cx="2591280" cy="1178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9" name=""/>
            <p:cNvCxnSpPr>
              <a:stCxn id="173" idx="3"/>
              <a:endCxn id="166" idx="1"/>
            </p:cNvCxnSpPr>
            <p:nvPr/>
          </p:nvCxnSpPr>
          <p:spPr>
            <a:xfrm flipV="1">
              <a:off x="3524040" y="4183920"/>
              <a:ext cx="2592720" cy="927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0" name=""/>
            <p:cNvCxnSpPr>
              <a:stCxn id="173" idx="3"/>
              <a:endCxn id="167" idx="1"/>
            </p:cNvCxnSpPr>
            <p:nvPr/>
          </p:nvCxnSpPr>
          <p:spPr>
            <a:xfrm flipV="1">
              <a:off x="3523680" y="4945680"/>
              <a:ext cx="2589480" cy="165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1" name=""/>
            <p:cNvCxnSpPr>
              <a:stCxn id="173" idx="3"/>
              <a:endCxn id="168" idx="1"/>
            </p:cNvCxnSpPr>
            <p:nvPr/>
          </p:nvCxnSpPr>
          <p:spPr>
            <a:xfrm>
              <a:off x="3524040" y="5111280"/>
              <a:ext cx="25912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2" name=""/>
            <p:cNvCxnSpPr>
              <a:stCxn id="174" idx="3"/>
              <a:endCxn id="166" idx="1"/>
            </p:cNvCxnSpPr>
            <p:nvPr/>
          </p:nvCxnSpPr>
          <p:spPr>
            <a:xfrm flipV="1">
              <a:off x="3524040" y="4184280"/>
              <a:ext cx="2592720" cy="1567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3" name=""/>
            <p:cNvCxnSpPr>
              <a:stCxn id="174" idx="3"/>
              <a:endCxn id="167" idx="1"/>
            </p:cNvCxnSpPr>
            <p:nvPr/>
          </p:nvCxnSpPr>
          <p:spPr>
            <a:xfrm flipV="1">
              <a:off x="3523680" y="4946040"/>
              <a:ext cx="2589480" cy="80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4" name=""/>
            <p:cNvCxnSpPr>
              <a:stCxn id="174" idx="3"/>
              <a:endCxn id="168" idx="1"/>
            </p:cNvCxnSpPr>
            <p:nvPr/>
          </p:nvCxnSpPr>
          <p:spPr>
            <a:xfrm flipV="1">
              <a:off x="3524040" y="5649480"/>
              <a:ext cx="2591280" cy="102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inal Thought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has had significant impact on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optimization software develop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xed-domain hybrid optimization is eas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crete-continuous modeling of dock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interfaces have made it easy for me to integrate Coliny solvers into other applic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standard parameterization mechani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doesn’t take too much effort to ‘Colinize’ a sol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has taken 200-600 lines of co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provides support for implicit algorithmic paralleli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this is exploited by Sandia’s DAKOTA toolk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tiv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6000"/>
          </a:bodyPr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im: we need a standard, modular interface for general-purpose optimiz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imization methods are widely applied in many disciplin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n-experts are often the biggest users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y different optimization codes have been develop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re are many different optimization strateg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ations of any one strategy reflect different design trade-off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r interfaces can be very different, even for the same of optimization strategy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730000"/>
                </a:solidFill>
                <a:latin typeface="Trebuchet MS"/>
              </a:rPr>
              <a:t>Most optimization solver experts are not user-interface experts ... so why should we expect their software to be generally easy to use by naive use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vailabilit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and Coliny are a packages in the Acro optimization reposito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ftware.sandia.gov/Ac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tivation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(cont’d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dea: couple two (or more) optimizers togeth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ample: memetic evolutionary algorith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 performs global sear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cal optimizer called to refine solu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e: we need a standard interface to initialize and launch the local optimizer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bject-Oriented Desig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6000"/>
          </a:bodyPr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im: Such a general interface should employ OO design princip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de modularity (encapsulation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de reuse (sharing, inheritanc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tages of OO for optimization (Meza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r user-interfa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, Solver objec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etter program interface for us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reverse-communication violates standard coding practi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cilitate the development of new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gorithmic components can be modulariz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gorithmic components can be reus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Line search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urrent OO Optimization Softwar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7000"/>
          </a:bodyPr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y different OO optimization solvers have been implemen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OCHO – reduced SQ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O – large-scale quasi-Newt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OOL – general nonlinear optimiz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AKOTA – design engineering toolk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GOPT – stochastic global optimiz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ICO – parallel branch-and-bou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Alib – genetic algorith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: different software packages use different OO abstractions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ample: representing array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l::vector, BasicArray, DakotaArray, 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dea: provide a common interface for optimization libr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sily extensible C++ components to wrap third-party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cilitates plug-and-play of optimizers for hybrid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specify real parameters for generic search domai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ynamic mapping between problem domai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e: our goal is not to create the ‘best’ OO optimization class heirarchy … whatever that mea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 Major Class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1240" y="1590120"/>
            <a:ext cx="8063640" cy="4578480"/>
            <a:chOff x="831240" y="1590120"/>
            <a:chExt cx="8063640" cy="4578480"/>
          </a:xfrm>
        </p:grpSpPr>
        <p:sp>
          <p:nvSpPr>
            <p:cNvPr id="104" name=""/>
            <p:cNvSpPr/>
            <p:nvPr/>
          </p:nvSpPr>
          <p:spPr>
            <a:xfrm>
              <a:off x="1852920" y="3934080"/>
              <a:ext cx="1807920" cy="429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OptProbl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1240" y="2637360"/>
              <a:ext cx="1500120" cy="429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OptSolv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59240" y="5148720"/>
              <a:ext cx="2162880" cy="42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OptApplic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" name=""/>
            <p:cNvCxnSpPr>
              <a:stCxn id="104" idx="2"/>
              <a:endCxn id="106" idx="1"/>
            </p:cNvCxnSpPr>
            <p:nvPr/>
          </p:nvCxnSpPr>
          <p:spPr>
            <a:xfrm flipH="1" rot="16200000">
              <a:off x="2666160" y="4479480"/>
              <a:ext cx="975240" cy="7945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8" name=""/>
            <p:cNvSpPr/>
            <p:nvPr/>
          </p:nvSpPr>
          <p:spPr>
            <a:xfrm>
              <a:off x="6043680" y="1590120"/>
              <a:ext cx="2851200" cy="1099440"/>
            </a:xfrm>
            <a:prstGeom prst="borderCallout2">
              <a:avLst>
                <a:gd name="adj1" fmla="val 18750"/>
                <a:gd name="adj2" fmla="val -8333"/>
                <a:gd name="adj3" fmla="val 14754"/>
                <a:gd name="adj4" fmla="val -66648"/>
                <a:gd name="adj5" fmla="val 103564"/>
                <a:gd name="adj6" fmla="val -1328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Generic optimization solver cla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105" idx="2"/>
              <a:endCxn id="104" idx="1"/>
            </p:cNvCxnSpPr>
            <p:nvPr/>
          </p:nvCxnSpPr>
          <p:spPr>
            <a:xfrm flipH="1" rot="16200000">
              <a:off x="1234080" y="3436560"/>
              <a:ext cx="1059480" cy="3675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110" name=""/>
            <p:cNvSpPr/>
            <p:nvPr/>
          </p:nvSpPr>
          <p:spPr>
            <a:xfrm>
              <a:off x="6303960" y="2949840"/>
              <a:ext cx="2590920" cy="1099440"/>
            </a:xfrm>
            <a:prstGeom prst="borderCallout2">
              <a:avLst>
                <a:gd name="adj1" fmla="val 18750"/>
                <a:gd name="adj2" fmla="val -8333"/>
                <a:gd name="adj3" fmla="val 14754"/>
                <a:gd name="adj4" fmla="val -53615"/>
                <a:gd name="adj5" fmla="val 115546"/>
                <a:gd name="adj6" fmla="val -106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Generic optimization problem cla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76960" y="4398840"/>
              <a:ext cx="2617920" cy="1769760"/>
            </a:xfrm>
            <a:prstGeom prst="borderCallout2">
              <a:avLst>
                <a:gd name="adj1" fmla="val 18750"/>
                <a:gd name="adj2" fmla="val -8333"/>
                <a:gd name="adj3" fmla="val 5703"/>
                <a:gd name="adj4" fmla="val -15768"/>
                <a:gd name="adj5" fmla="val 48055"/>
                <a:gd name="adj6" fmla="val -290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Internal class used to manage the interface to a user’s application co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simple COLIN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7200" y="1447560"/>
            <a:ext cx="823896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A test fun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ouble func(vector&lt;double&gt;&amp; point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Create and setup an optimization problem clas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Problem&lt;vector&lt;double&gt; &gt; prob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Setup(prob, func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b.set_parameter(“domain”, “[-1.0,1.0]^3”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Create and setup a sMC optimiz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MC&lt;vector&lt;double&gt; &gt; op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set_problem(prob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set_parameter(“max_neval”,100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reset(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Perform minimization and print the best valu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minimize(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ut &lt;&lt; opt.min_val() &lt;&lt; endl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Mapping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user defines an application with a specific domain ty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fferent solver objects may use different domain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is unreasonable to ask the user to adapt their application code for each sol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a generic domain mapping function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04:12:09Z</dcterms:created>
  <dc:creator>Sandia National Laboratories</dc:creator>
  <dc:description/>
  <dc:language>en-US</dc:language>
  <cp:lastModifiedBy>wehart</cp:lastModifiedBy>
  <dcterms:modified xsi:type="dcterms:W3CDTF">2007-09-20T02:07:20Z</dcterms:modified>
  <cp:revision>3</cp:revision>
  <dc:subject/>
  <dc:title>An Introduction to the COLIN Optimization Interface</dc:title>
</cp:coreProperties>
</file>