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67953"/>
        <c:axId val="77789917"/>
      </c:barChart>
      <c:catAx>
        <c:axId val="10767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89917"/>
        <c:crosses val="autoZero"/>
        <c:auto val="1"/>
        <c:lblAlgn val="ctr"/>
        <c:lblOffset val="100"/>
        <c:noMultiLvlLbl val="0"/>
      </c:catAx>
      <c:valAx>
        <c:axId val="77789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67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A99-9C0E-4C99-B565-2E37FE2E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05D-15E5-47F1-BAC9-B1C9354E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179-8B90-44FE-9B93-98060080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494-AAF3-4A11-BC6B-425FCA2C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8C3-74CA-4A21-B5BD-71B0A88A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C8E-DCE7-4485-8CE4-34FCA1E1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244-0840-45AA-AAAE-676F7162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6B2-5ABB-4F3E-A66D-703E10D4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C0E-05B4-43B5-BF30-81FC12DE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425-8405-4C33-B746-C06936E6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4FB-7617-4638-9454-D82C618A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9DC-F7C9-4048-83D7-CF3B16D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F5AC6-B0BB-4950-BC66-2CE1DFA0B9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