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54720"/>
        <c:axId val="77995036"/>
      </c:barChart>
      <c:catAx>
        <c:axId val="1445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95036"/>
        <c:crosses val="autoZero"/>
        <c:auto val="1"/>
        <c:lblAlgn val="ctr"/>
        <c:lblOffset val="100"/>
        <c:noMultiLvlLbl val="0"/>
      </c:catAx>
      <c:valAx>
        <c:axId val="77995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4AC-8DC4-4CDD-B091-2966BDFF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DDB-C1F3-4D75-A4BD-33981B4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6FA-9166-4F53-9863-A72DC8F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CEA-626B-4CF1-9338-E498C25C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1B8-98AA-419C-A6AA-723F2CA1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199-1DD4-4B7C-B0E8-EF6103D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BCC-8F6F-4F60-8E1B-4007B40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C16-61D7-4762-8978-5319A14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89B-BEF6-4905-812E-F02EBBF7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109-9AC1-4211-A70A-DD38A17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F63-C825-43BC-8378-7371826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B9B-6420-4B9A-A018-D237513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5EAF1-C6C4-4695-9D91-11D01EA64D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