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28169"/>
        <c:axId val="34724393"/>
      </c:barChart>
      <c:catAx>
        <c:axId val="43328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24393"/>
        <c:crosses val="autoZero"/>
        <c:auto val="1"/>
        <c:lblAlgn val="ctr"/>
        <c:lblOffset val="100"/>
        <c:noMultiLvlLbl val="0"/>
      </c:catAx>
      <c:valAx>
        <c:axId val="34724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8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6DF-B1F7-4882-BE88-4DB0C078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264-98C2-4D3D-9A5B-64B11B9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094-F50A-4C32-B035-4219B38C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5F3-3670-45FB-ADDC-FFD132E9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0EC-E404-485B-9384-D6E599AD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0E4-C9EF-4EE6-A65E-F87B212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604-6DBF-43E6-BDC5-17955849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013-B04D-46FC-A472-3C6C2DED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BCC-41CA-4076-86F0-2250CB3B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737-8616-4AA0-89BB-7A30957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333-C28F-4F2A-B0EF-4B036DA7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FEF-D91B-4192-BD3C-4B383AA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8B3B-D6D3-4B8C-B615-3AED1D67E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