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02440"/>
        <c:axId val="54730960"/>
      </c:barChart>
      <c:catAx>
        <c:axId val="81202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30960"/>
        <c:crosses val="autoZero"/>
        <c:auto val="1"/>
        <c:lblAlgn val="ctr"/>
        <c:lblOffset val="100"/>
        <c:noMultiLvlLbl val="0"/>
      </c:catAx>
      <c:valAx>
        <c:axId val="54730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02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A6F-02FA-4F1F-85B1-50D6B945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19C-284C-4F77-A5E2-2AC893F2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FF5-5C5D-46A6-BAA6-5EC3745E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F25-B242-4B1A-B840-F5BF3857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5D2-75D0-4640-8F93-B975E13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B83-711B-483D-A51F-33BE9B96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561-68FB-460C-B54E-571153FA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E7E-8B26-46E8-A0F5-347F5F98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DEF-CCAB-4929-9205-D04BF47B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016-651E-4AA2-848C-B30C12A5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4F6-AF4A-48F0-85A9-4122E20A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D0D-5575-4160-B7F5-FF88D3F3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52362-C148-42EE-A00A-6B865B580E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