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3098"/>
        <c:axId val="1418801"/>
      </c:barChart>
      <c:catAx>
        <c:axId val="6273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8801"/>
        <c:crosses val="autoZero"/>
        <c:auto val="1"/>
        <c:lblAlgn val="ctr"/>
        <c:lblOffset val="100"/>
        <c:noMultiLvlLbl val="0"/>
      </c:catAx>
      <c:valAx>
        <c:axId val="1418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3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A3D-3596-4236-A3EE-E2DE370B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DB7-F573-4C57-8C7F-C31B9691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84F-0BA0-4E00-89B3-7C0CBAFC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24D-F005-4DBB-9A95-D5D8E409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550-C3E5-4DAF-997D-4D933440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C5A-70FD-4CC2-9BDB-ED8133C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780-E9BE-4016-B78D-7F5FC53C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0BA-F165-431A-B4B5-3B7ED5CB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96F-4AF5-4D3F-890C-D0D6437E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82A-3772-4E49-95F6-6DF06AEF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603-829C-4E5F-A95E-46D2803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848-76A2-4A05-82A6-7E6AA796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FE589-40BC-42E7-80A0-EA03297F71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