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89760"/>
        <c:axId val="2690974"/>
      </c:barChart>
      <c:catAx>
        <c:axId val="343897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0974"/>
        <c:crosses val="autoZero"/>
        <c:auto val="1"/>
        <c:lblAlgn val="ctr"/>
        <c:lblOffset val="100"/>
        <c:noMultiLvlLbl val="0"/>
      </c:catAx>
      <c:valAx>
        <c:axId val="26909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897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DF31-6164-47A9-851E-3104C9B3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9AC3-1A28-4115-B9E2-79E2F910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A919-AA90-4B59-8EB7-95F4DC5E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797-ED84-49ED-B58B-AD6BD964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C5C-241B-42C1-9A06-1B0C8CC1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4717-D05A-4D4B-A32E-ACFDE2F4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D1AE-6CE5-40D4-A208-45D980DF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33F-95FA-4F36-B5DE-94E1C113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B8BF-B1F2-4E15-AE64-BAFE10A6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C52D-6740-4E36-ACD2-8B658899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F17B-D913-452E-962C-807330A3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6F33-7C12-4934-A295-616BC4B7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E358C-1412-4C0B-AB4A-1ED1A9C39F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