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93739"/>
        <c:axId val="98049952"/>
      </c:barChart>
      <c:catAx>
        <c:axId val="68393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9952"/>
        <c:crosses val="autoZero"/>
        <c:auto val="1"/>
        <c:lblAlgn val="ctr"/>
        <c:lblOffset val="100"/>
        <c:noMultiLvlLbl val="0"/>
      </c:catAx>
      <c:valAx>
        <c:axId val="98049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93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A25-78F7-4966-A124-8368FA33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285-7C48-4E3F-AD4D-CF2CBF68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D41-E2D8-4335-9512-B8AC5748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620-47A2-4886-AA7C-6C332990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8B7-6D58-4AEC-B06A-3BC8B5B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C72-546C-46B1-8014-F95ED1A0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706-5F2D-437B-AA39-B63A7F0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1A1-B2ED-4C1C-98A6-8A8105D5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49A-103C-405D-BA1D-7C739AB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4B4-F5AB-46A7-AC06-0F15C212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BF7-22F2-4668-8D79-D72498ED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F85-00D8-489A-95CC-08D0D59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B7E35-8AC9-4C7D-A542-C2EC4DD3ED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