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34148"/>
        <c:axId val="42516552"/>
      </c:barChart>
      <c:catAx>
        <c:axId val="39434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6552"/>
        <c:crosses val="autoZero"/>
        <c:auto val="1"/>
        <c:lblAlgn val="ctr"/>
        <c:lblOffset val="100"/>
        <c:noMultiLvlLbl val="0"/>
      </c:catAx>
      <c:valAx>
        <c:axId val="42516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4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CD3-967B-4ED1-A568-D120A4FC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545-F6D1-4CC6-8163-46A6A5B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FEA-7DDD-4C74-A880-D1616539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B07-F879-4045-A885-4A6FC3AE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2FE-6973-4533-899A-4752467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619-BD1F-4BED-B475-1C1159C2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0DB-91DF-4108-917A-D8341A4C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764-280D-4B45-AA9F-314E73A7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A45-34EC-4CD6-9998-A5FB167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9E9-E56D-4611-99D6-B9C4B558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7BE-D1E5-4C96-BBDD-1084BE71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A0D-2977-468B-9C1B-E4B6B95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E8343-A98C-498C-9B0C-84E1C21FC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