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410"/>
        <c:axId val="23074203"/>
      </c:barChart>
      <c:catAx>
        <c:axId val="5375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74203"/>
        <c:crosses val="autoZero"/>
        <c:auto val="1"/>
        <c:lblAlgn val="ctr"/>
        <c:lblOffset val="100"/>
        <c:noMultiLvlLbl val="0"/>
      </c:catAx>
      <c:valAx>
        <c:axId val="23074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261-8F34-4720-9555-0F3F28C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83E-A9DF-4198-998D-812D9705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09C-0651-487A-9533-D4A796CD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2C9-2BCF-47E0-A8DD-03647FEE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393-5A32-49E9-9E7A-BEB36633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B28-00A6-4CC1-8A2C-9558093D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42C-A6DE-49C1-96C9-4E25B820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BC0-D73F-4FAD-9EA2-811BA04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1EB-9D1F-4484-BD44-B07B5A1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64B-9A7D-4B31-A254-6F0F9CA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A32-FFBD-45B4-99B2-9A4DD40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DB8-B05E-4474-9608-22C8954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DD368-B3E7-4AF2-8C58-4E03CAA95C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