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9118"/>
        <c:axId val="53895080"/>
      </c:barChart>
      <c:catAx>
        <c:axId val="1989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95080"/>
        <c:crosses val="autoZero"/>
        <c:auto val="1"/>
        <c:lblAlgn val="ctr"/>
        <c:lblOffset val="100"/>
        <c:noMultiLvlLbl val="0"/>
      </c:catAx>
      <c:valAx>
        <c:axId val="53895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9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A8B-E4F2-48A5-B61A-3F92B227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DD5-1839-4804-AF9C-5C0E09E7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D12-4348-42FC-A0F6-9C1F08E5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642-145A-4F8D-BF0F-9E082DE6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6E0-83E8-412E-BF4A-F91C5F88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AB2-BF7E-47EB-A34E-95985A3A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700-D2E5-40F6-BE34-14642ABB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3A3-3CD8-41A2-A70B-B6308CEB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6EF-9BC0-464C-9FD5-B18B38C6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02C-FA42-4B53-AA9F-2E704E8D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881-4713-4B90-BAF7-02F52C4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71C-5ACD-489B-B378-B2AC4CF4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B9DDE-48A5-4A0C-BEE1-B44A6F2AE3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