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00652"/>
        <c:axId val="85711436"/>
      </c:barChart>
      <c:catAx>
        <c:axId val="345006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11436"/>
        <c:crosses val="autoZero"/>
        <c:auto val="1"/>
        <c:lblAlgn val="ctr"/>
        <c:lblOffset val="100"/>
        <c:noMultiLvlLbl val="0"/>
      </c:catAx>
      <c:valAx>
        <c:axId val="857114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006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A78C-3AAF-4592-93FD-BD3046A8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B57-B043-4BD8-A3CF-AB4F2187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BAC8-FDE1-4CCD-834F-830075BC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953C-5845-42DB-ACAB-703CAB49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5AED-D8C1-4033-A8B6-4ED38A94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8B36-CECE-4D53-A4D9-2A214338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A413-8D45-433F-BF2E-FB554550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2A94-6829-44E7-A0C9-F0436EC9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C41D-50BA-4F00-AEAB-CEC6312E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923F-2EE8-4CA1-87A5-B8E05909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6E04-1CC7-42E6-9FBA-D3776250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259-54D8-4FC8-94F9-C263499B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4F14A-BEF6-4A64-8F8A-630E1201F6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