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96775"/>
        <c:axId val="6700588"/>
      </c:barChart>
      <c:catAx>
        <c:axId val="90996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588"/>
        <c:crosses val="autoZero"/>
        <c:auto val="1"/>
        <c:lblAlgn val="ctr"/>
        <c:lblOffset val="100"/>
        <c:noMultiLvlLbl val="0"/>
      </c:catAx>
      <c:valAx>
        <c:axId val="6700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96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790-3B9C-4F79-8227-5940E862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75B-5BB8-4667-9A32-9FA105D1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C9C-01C0-4CB8-B6DE-7FAD5002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7F2-F99F-4058-B8D1-08E0C53B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9BF-FF12-4CC3-AF09-1D4897A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026-E1CD-4138-920C-D8858E0D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13A-6439-49FB-8085-970A9853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C64-8803-49A7-A026-C26C9B3A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F3E-627A-4AF9-B5C2-C541961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296-AFD1-4621-98B0-9100F13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6AA-58D0-467B-B9E2-FBB523F1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173-2575-447C-83AF-C1201A8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3C169-7592-461D-95D2-C15EB6CBCA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