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65338"/>
        <c:axId val="104051"/>
      </c:barChart>
      <c:catAx>
        <c:axId val="55465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051"/>
        <c:crosses val="autoZero"/>
        <c:auto val="1"/>
        <c:lblAlgn val="ctr"/>
        <c:lblOffset val="100"/>
        <c:noMultiLvlLbl val="0"/>
      </c:catAx>
      <c:valAx>
        <c:axId val="104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5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F07-0402-4735-A54B-60B25F3F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4A2-4C35-42DE-951A-7CE02A1A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73D-61F9-459B-9D52-3CBC69BF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6F1-1081-4AD0-A754-9555F79E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B06-605E-4124-870A-7BC7371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C2D-9E28-4C62-9980-88BCD06C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A5B-6BC0-40AD-80FD-2E7FFEE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CA4-7AA2-4586-A402-50CBD28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904-D861-4A10-B181-C0E01DEC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3BA-065A-4884-BC3C-8975D38F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C0C-E22C-4F9D-AD66-0569086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C93-7C14-41DE-9DCD-ECF2526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A8AD2-9BAD-4C55-93AC-88BD1D3414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