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94141"/>
        <c:axId val="23905101"/>
      </c:barChart>
      <c:catAx>
        <c:axId val="93694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05101"/>
        <c:crosses val="autoZero"/>
        <c:auto val="1"/>
        <c:lblAlgn val="ctr"/>
        <c:lblOffset val="100"/>
        <c:noMultiLvlLbl val="0"/>
      </c:catAx>
      <c:valAx>
        <c:axId val="23905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4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3C0-3D06-4231-A51B-03886833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E89-C559-4996-92BD-B1589DB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2C2-28CE-425F-91C0-F68E9A27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6EA-1793-4209-9BBE-2A4D44E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145-23B8-459C-9C01-AAB26239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CC0-D99D-469C-A295-FD6C3E7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B7A-2F56-4FEC-B894-C5D01547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DBD-B646-47F5-8934-80A7A7DA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078-BFDB-42E4-85AD-1EECE319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2F3-259E-4282-B92B-0AB5195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764-EF59-48C5-9C1C-0A5DD3E8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F06-548D-4838-8BEA-90FF8AC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BA13D-9A6F-449A-A0FC-C5683B030F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