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03149"/>
        <c:axId val="38854514"/>
      </c:barChart>
      <c:catAx>
        <c:axId val="11603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54514"/>
        <c:crosses val="autoZero"/>
        <c:auto val="1"/>
        <c:lblAlgn val="ctr"/>
        <c:lblOffset val="100"/>
        <c:noMultiLvlLbl val="0"/>
      </c:catAx>
      <c:valAx>
        <c:axId val="38854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03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127-8A6D-4512-9B9C-AA6C8CD0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A22-18BC-4DEA-8421-561E353B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F58-3CD3-420C-9879-3F01D082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F91-4C93-422E-8B07-F9E4A1D8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998-7CC0-49AA-9662-111CE623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A7F-E428-410A-8AA6-FC09D79C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8EA-25E2-43B6-8C14-5B449239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8B1-C009-4F6B-A13E-2AD2A949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8FB-FC97-4883-ACDD-42A39361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41E-B5F6-4944-9A8F-83B4B1D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1A5-FBA0-4E25-BA50-8AB7DE83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1C5-E92A-4B9D-851B-0A17582A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61B3E-0852-4AB5-B87F-294344277A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