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29922"/>
        <c:axId val="92333713"/>
      </c:barChart>
      <c:catAx>
        <c:axId val="24229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33713"/>
        <c:crosses val="autoZero"/>
        <c:auto val="1"/>
        <c:lblAlgn val="ctr"/>
        <c:lblOffset val="100"/>
        <c:noMultiLvlLbl val="0"/>
      </c:catAx>
      <c:valAx>
        <c:axId val="92333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29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1C9-610B-4373-85D5-29F86262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E49-462C-4BAF-A623-E90BF201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EAB-2F50-42D8-AD80-4DF61552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CCB-042A-481C-AFFB-D101CB8C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EDC-E92F-48D3-9216-6F5D49B9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73A-B664-4DE8-81E2-576F954E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7E2-A932-4688-A498-8FC4926E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20F-82B9-4255-B6B5-BFA1694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EB0-C2B4-491F-A7D8-AE65B4EF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441-E2F2-4B86-B043-A99EF4B5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4D3-D0FC-436A-A6CF-E215E1E8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0EF-A973-4C59-BC4D-6B789044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E8283-D53E-41E7-9DFB-AE850B2F9C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