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3638"/>
        <c:axId val="86583900"/>
      </c:barChart>
      <c:catAx>
        <c:axId val="7983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3900"/>
        <c:crosses val="autoZero"/>
        <c:auto val="1"/>
        <c:lblAlgn val="ctr"/>
        <c:lblOffset val="100"/>
        <c:noMultiLvlLbl val="0"/>
      </c:catAx>
      <c:valAx>
        <c:axId val="86583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3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1B1-C335-4DAE-8B7C-31EE64D6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95C-EBB5-4E77-99D8-81792D7D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D25-2011-4E40-86B6-D87FD834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2A7-BCF4-4811-B82C-B97F45A5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749-AA9B-42FA-9251-1F909780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6F1-80D8-4634-96E7-F1C841F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77E-9905-4E2A-B801-5816EB36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BC2-8864-4BF6-A4ED-2E5115EF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2F0-FD55-4C6D-B158-98394300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487-CF14-43E9-B931-5558DA38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866-9A3A-45F8-AEA8-BA7324F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4ED-2EF6-4226-AFC0-7CE3062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1F113-46DF-4F54-A22B-74073735C5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