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24993"/>
        <c:axId val="76382205"/>
      </c:barChart>
      <c:catAx>
        <c:axId val="65524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82205"/>
        <c:crosses val="autoZero"/>
        <c:auto val="1"/>
        <c:lblAlgn val="ctr"/>
        <c:lblOffset val="100"/>
        <c:noMultiLvlLbl val="0"/>
      </c:catAx>
      <c:valAx>
        <c:axId val="76382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24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864-96E4-4BFB-BB7D-DF613C1A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677-AD22-4DAC-A483-50B54809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D0A-87A6-4A31-83D3-167455DA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15E-278F-43F8-B729-FCAB6CC9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0AE-2EDE-43C1-B6BD-E0D7EF9B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E56-A220-4CD0-B466-618B2F15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B10-3EA9-4ABA-9D7C-3E702959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E59-8D08-44A9-A235-65A17797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9B3-14A3-48DB-8634-3F7938AA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DB2-A241-4AE9-8CF9-04965A9A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977-C25D-484E-8BA0-0AC34982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1B6-81C1-41B4-913C-52606F53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6BD95-1D6F-442C-B120-4A34C0BDB8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