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19971"/>
        <c:axId val="46738594"/>
      </c:barChart>
      <c:catAx>
        <c:axId val="58819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38594"/>
        <c:crosses val="autoZero"/>
        <c:auto val="1"/>
        <c:lblAlgn val="ctr"/>
        <c:lblOffset val="100"/>
        <c:noMultiLvlLbl val="0"/>
      </c:catAx>
      <c:valAx>
        <c:axId val="46738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19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208-51A5-4A4A-A9AF-BC5DA98E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B3BB-BA54-40B7-B9E9-A3154D36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B927-BF58-4682-A7D2-DFD44150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421-DCF1-47F9-984C-5DC57608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627-2F26-4BB4-872E-65E8324D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84F-4D3A-49DF-B9E2-207D4CDC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B75B-62AD-44DC-A7BB-80E1E09E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268-C912-4BF7-9941-667A33E6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5A1-18D4-4D2D-A5B0-B6D5D84A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5B2-2371-402D-B28A-246C4CB2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1C2-5C01-48AC-81DC-910B8356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F66-ED58-4074-B331-7A118431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E2B78-2451-4910-B1C0-2DAE95838F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