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19159"/>
        <c:axId val="25289381"/>
      </c:barChart>
      <c:catAx>
        <c:axId val="69019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89381"/>
        <c:crosses val="autoZero"/>
        <c:auto val="1"/>
        <c:lblAlgn val="ctr"/>
        <c:lblOffset val="100"/>
        <c:noMultiLvlLbl val="0"/>
      </c:catAx>
      <c:valAx>
        <c:axId val="25289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19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F8E-EC7E-4DD1-B319-7306BAB7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966-D41D-4809-B8FD-1BCA58DE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B90-0C0B-4CDE-B4E3-260CEB4A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DDF-2B23-4304-A73A-7109B727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45E-61A3-4EB8-92FD-E43B658F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62C-F3E6-4B42-A312-DC6BA680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BFB-470B-4D06-B39B-D7F2C5AD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BB7-F636-41AC-8696-D7CE87EB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57D-72A7-4336-BB34-4515294D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579-D900-4C4E-8CCA-0E09A96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DE2-9DFA-46E3-B9B3-9AA45AF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045-E097-415C-81A1-62D1522D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E634D-C166-4333-B651-47B48B0FA4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