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58030"/>
        <c:axId val="36365030"/>
      </c:barChart>
      <c:catAx>
        <c:axId val="64558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65030"/>
        <c:crosses val="autoZero"/>
        <c:auto val="1"/>
        <c:lblAlgn val="ctr"/>
        <c:lblOffset val="100"/>
        <c:noMultiLvlLbl val="0"/>
      </c:catAx>
      <c:valAx>
        <c:axId val="36365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58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3B7-3DA9-4BD7-B15E-50E24130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49A-C385-4E39-999B-6380C4CA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CC6-4033-4ED0-9338-18420C65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8F1-F5F9-4568-97A5-8063EBE5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CAC-44A1-4BC6-8B3B-2078A8D5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C89-995E-47DD-BEC2-7B14E291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6FE-0ECD-42DB-B524-8107F991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5C9-845E-4162-AFC1-22A30663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8C1-0AA8-47EE-A8CD-C1A2C50E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992-00CD-40FB-9996-BEBF08AC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3CC-D3A2-43E7-8B14-773AF97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68D-AFB3-4081-A4FF-4C0A3726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9BC51-DC5E-4610-8652-FC77821D46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